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95D3-A963-494E-B0F5-5062C338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840" y="369684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44F9-E224-4D75-9994-02E0D9E0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840" y="36968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24560" y="36968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5A18-0E8D-4DF0-8D53-ED003776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6920" y="9842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4000" y="9842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840" y="36968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6920" y="36968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4000" y="36968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BF8-A374-48B8-BA50-7B772741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5A35-CD57-4857-97F4-DA3007BA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39840" y="98424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B7D8-121C-4FEA-B69A-91435FDA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86A9-5A99-456D-91A8-09023EC0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E237-5644-4057-91E3-EB7F9CAE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66FB-1A1A-41F2-BF64-9C64CB3F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65324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4657-D785-43EC-934D-2BFEA969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39840" y="36968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A1DC-A278-4D31-B33F-06BF0587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840" y="98424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B98-5742-4EA6-8833-8E9B609B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4560" y="36968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46CF-F555-43F5-A9BA-26F4CC68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39840" y="369684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97E2-B0AD-4DBA-9F58-E7209013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9840" y="369684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5DB6-1E6E-4562-B45E-63C0A6E5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39840" y="36968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4560" y="36968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F3EB-57F5-4B51-92FA-5951B5E1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6920" y="9842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000" y="9842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39840" y="36968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6920" y="36968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000" y="36968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1816-2E2E-4445-BB5C-9155B6EE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4EC1E-B1CF-44E1-9242-48E54690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39840" y="98424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598C7-CF57-4B0C-8F95-7F0BFF83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CC926-0C00-4D00-8768-3823AB3C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FDEC5-B2CC-4FED-AE8D-B979391E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8F68E-4E00-4C8C-B519-D53A331B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06D-6100-4485-BF57-B57CD751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65324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E22F4-0825-44C6-AEBA-2F0F6D5D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39840" y="36968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B205D-932E-4CD3-A21F-532A6572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4560" y="36968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48A81-AAEF-4FEA-A7D7-E8620651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39840" y="369684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094D0-CC86-4178-AA1B-D05D953F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9840" y="369684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209A3-0131-4ACF-873D-FB5A7B7D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39840" y="36968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4560" y="36968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3984C-73EE-4121-895B-6091BF9B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66920" y="9842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94000" y="9842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39840" y="36968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66920" y="36968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94000" y="36968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4828B-1A5D-4B0B-BA6C-57B3910E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E8E90-4A09-4563-8813-4EC70500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39840" y="98424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F1DE8-2A0B-4BFA-A0F6-8FBF3840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6C2B4-AED9-4375-9428-A0037360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04BD-C82E-4840-A63E-E00EBE17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2CBBD-00E4-4FD4-A505-06BAF3D5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03D95-6B39-4CFC-989F-C005779A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65324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AE340-AB97-4A2E-8581-2DECC7BD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39840" y="36968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A09E0-9E7E-47D3-8032-0C8B0E2C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24560" y="36968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98D12-A655-4C87-90B7-46950C3A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39840" y="369684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D07A1-DEB5-4B96-BEA4-1491BEB9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9840" y="369684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27ABC-5DDD-4888-9B90-1158184F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39840" y="36968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24560" y="36968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FCCC2-BC11-4C97-9B77-4470B7E7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66920" y="9842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94000" y="9842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39840" y="36968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66920" y="36968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94000" y="36968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DAE61-FED7-40F1-AB93-3519B612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2516F-F363-4AAD-8557-053F9F17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E2D3-8EA9-4DE9-9989-8CEF9C9F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39840" y="98424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D6D4A-D624-45DF-AD41-0B44994B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2A2EF-0320-461F-9D83-1DAC509D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75C6C-B891-4FCD-A85E-716A04B3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3941F-191F-452C-988D-B4508D4A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65324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B2A76-4B65-4D4F-A7E7-A59248A0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39840" y="36968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C23AF-64A5-441F-9078-EBB4AE39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24560" y="36968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2C1C0-2202-4A42-B2E9-6FF86069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39840" y="369684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D4F94-F2B4-421E-823B-98D4359A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9840" y="369684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76393-286B-4ACD-924A-C431C1CB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39840" y="36968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24560" y="36968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E9E80-D1DD-4F75-89E2-F7B4B328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65324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838E-33BC-466D-81BF-02D86742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6920" y="9842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94000" y="9842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39840" y="36968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6920" y="36968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94000" y="36968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74CDC-74B7-4259-B01C-25ECEBE1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F5192-7D95-4631-8AF4-9EC0D7A3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39840" y="98424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B1E6F-548F-4F2E-A0D9-7A323B08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E8FD9-31F7-44C7-B8B6-36426796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AB41A-25DD-4D58-8D38-08214BFB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3644F-60F3-497D-9513-56A03804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65324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DBD51-F66C-4992-AF8A-4BCCA585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39840" y="36968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B74F7-EFA6-4403-B850-E3569A67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24560" y="36968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4B983-33B3-4E73-8759-AC354086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39840" y="369684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774F8-6A9A-48D3-B0B0-BB1DBE96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840" y="36968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9A47-E9B7-4BA0-A9A0-587B1D26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9840" y="369684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E2FCA-0E08-4EBB-B400-AFC2D642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39840" y="36968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24560" y="36968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C1D38-0353-4396-B701-0C00CB04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166920" y="9842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994000" y="9842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339840" y="36968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166920" y="36968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994000" y="3696840"/>
            <a:ext cx="2692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53435-C5B7-4311-8F11-BDF1177E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24560" y="36968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9D7B-DA8A-4848-BC98-4AF9C953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84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4560" y="984240"/>
            <a:ext cx="40802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840" y="3696840"/>
            <a:ext cx="8361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3B95-74C3-4ECA-9F00-A26D805B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3416" r="380" b="1058"/>
          <a:stretch/>
        </p:blipFill>
        <p:spPr>
          <a:xfrm>
            <a:off x="0" y="196920"/>
            <a:ext cx="9144000" cy="6665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39840" y="98424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046fb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7ad0eb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4959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CBBD-8752-49CD-8DCE-967354C2A9B0}" type="slidenum">
              <a:rPr b="0" lang="zh-CN" sz="1200" spc="-1" strike="noStrike">
                <a:solidFill>
                  <a:srgbClr val="94959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接连接符 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19080">
            <a:solidFill>
              <a:srgbClr val="c0e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pic>
        <p:nvPicPr>
          <p:cNvPr id="6" name="图片 10" descr="01300000079894122206850838787"/>
          <p:cNvPicPr/>
          <p:nvPr/>
        </p:nvPicPr>
        <p:blipFill>
          <a:blip r:embed="rId3"/>
          <a:stretch/>
        </p:blipFill>
        <p:spPr>
          <a:xfrm>
            <a:off x="212760" y="104760"/>
            <a:ext cx="717480" cy="7174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fb6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8" descr=""/>
          <p:cNvPicPr/>
          <p:nvPr/>
        </p:nvPicPr>
        <p:blipFill>
          <a:blip r:embed="rId2"/>
          <a:srcRect l="380" t="1427" r="0" b="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39840" y="98424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046fb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7ad0eb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fb6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4959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9FAA-4970-4865-8D1C-DF0297289461}" type="slidenum">
              <a:rPr b="0" lang="zh-CN" sz="1200" spc="-1" strike="noStrike">
                <a:solidFill>
                  <a:srgbClr val="94959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6" descr=""/>
          <p:cNvPicPr/>
          <p:nvPr/>
        </p:nvPicPr>
        <p:blipFill>
          <a:blip r:embed="rId2"/>
          <a:srcRect l="0" t="3416" r="380" b="1058"/>
          <a:stretch/>
        </p:blipFill>
        <p:spPr>
          <a:xfrm>
            <a:off x="0" y="196920"/>
            <a:ext cx="9144000" cy="6665760"/>
          </a:xfrm>
          <a:prstGeom prst="rect">
            <a:avLst/>
          </a:prstGeom>
          <a:ln w="0">
            <a:noFill/>
          </a:ln>
        </p:spPr>
      </p:pic>
      <p:sp>
        <p:nvSpPr>
          <p:cNvPr id="87" name="直接连接符 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19080">
            <a:solidFill>
              <a:srgbClr val="c0e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339840" y="98424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046fb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7ad0eb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fb6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4959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F63A-004A-4867-8758-660C2BFB74F1}" type="slidenum">
              <a:rPr b="0" lang="zh-CN" sz="1200" spc="-1" strike="noStrike">
                <a:solidFill>
                  <a:srgbClr val="94959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6" descr=""/>
          <p:cNvPicPr/>
          <p:nvPr/>
        </p:nvPicPr>
        <p:blipFill>
          <a:blip r:embed="rId2"/>
          <a:srcRect l="0" t="3416" r="380" b="1058"/>
          <a:stretch/>
        </p:blipFill>
        <p:spPr>
          <a:xfrm>
            <a:off x="0" y="196920"/>
            <a:ext cx="9144000" cy="6665760"/>
          </a:xfrm>
          <a:prstGeom prst="rect">
            <a:avLst/>
          </a:prstGeom>
          <a:ln w="0">
            <a:noFill/>
          </a:ln>
        </p:spPr>
      </p:pic>
      <p:sp>
        <p:nvSpPr>
          <p:cNvPr id="130" name="直接连接符 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19080">
            <a:solidFill>
              <a:srgbClr val="c0e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pic>
        <p:nvPicPr>
          <p:cNvPr id="131" name="图片 10" descr="01300000079894122206850838787"/>
          <p:cNvPicPr/>
          <p:nvPr/>
        </p:nvPicPr>
        <p:blipFill>
          <a:blip r:embed="rId3"/>
          <a:stretch/>
        </p:blipFill>
        <p:spPr>
          <a:xfrm>
            <a:off x="212760" y="104760"/>
            <a:ext cx="717480" cy="717480"/>
          </a:xfrm>
          <a:prstGeom prst="rect">
            <a:avLst/>
          </a:prstGeom>
          <a:ln w="0">
            <a:noFill/>
          </a:ln>
        </p:spPr>
      </p:pic>
      <p:sp>
        <p:nvSpPr>
          <p:cNvPr id="132" name="标题 1"/>
          <p:cNvSpPr/>
          <p:nvPr/>
        </p:nvSpPr>
        <p:spPr>
          <a:xfrm>
            <a:off x="971640" y="333360"/>
            <a:ext cx="76532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22b1de"/>
                </a:solidFill>
                <a:latin typeface="Arial"/>
                <a:ea typeface="楷体"/>
              </a:rPr>
              <a:t>郑州大学第十二届学生思想政治工作理论研讨会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pic>
        <p:nvPicPr>
          <p:cNvPr id="133" name="图片 8" descr="01300000079894122206850838787"/>
          <p:cNvPicPr/>
          <p:nvPr/>
        </p:nvPicPr>
        <p:blipFill>
          <a:blip r:embed="rId4"/>
          <a:stretch/>
        </p:blipFill>
        <p:spPr>
          <a:xfrm>
            <a:off x="212760" y="104760"/>
            <a:ext cx="717480" cy="7174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39840" y="98424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046fb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7ad0eb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fb6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4959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7408-F93E-4B57-BF04-3E14B903F7B0}" type="slidenum">
              <a:rPr b="0" lang="zh-CN" sz="1200" spc="-1" strike="noStrike">
                <a:solidFill>
                  <a:srgbClr val="94959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6" descr=""/>
          <p:cNvPicPr/>
          <p:nvPr/>
        </p:nvPicPr>
        <p:blipFill>
          <a:blip r:embed="rId2"/>
          <a:srcRect l="0" t="3416" r="380" b="1058"/>
          <a:stretch/>
        </p:blipFill>
        <p:spPr>
          <a:xfrm>
            <a:off x="0" y="196920"/>
            <a:ext cx="9144000" cy="6665760"/>
          </a:xfrm>
          <a:prstGeom prst="rect">
            <a:avLst/>
          </a:prstGeom>
          <a:ln w="0">
            <a:noFill/>
          </a:ln>
        </p:spPr>
      </p:pic>
      <p:sp>
        <p:nvSpPr>
          <p:cNvPr id="176" name="直接连接符 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19080">
            <a:solidFill>
              <a:srgbClr val="c0e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pic>
        <p:nvPicPr>
          <p:cNvPr id="177" name="图片 10" descr="01300000079894122206850838787"/>
          <p:cNvPicPr/>
          <p:nvPr/>
        </p:nvPicPr>
        <p:blipFill>
          <a:blip r:embed="rId3"/>
          <a:stretch/>
        </p:blipFill>
        <p:spPr>
          <a:xfrm>
            <a:off x="212760" y="104760"/>
            <a:ext cx="717480" cy="71748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0" descr="01300000079894122206850838787"/>
          <p:cNvPicPr/>
          <p:nvPr/>
        </p:nvPicPr>
        <p:blipFill>
          <a:blip r:embed="rId4"/>
          <a:stretch/>
        </p:blipFill>
        <p:spPr>
          <a:xfrm>
            <a:off x="212760" y="104760"/>
            <a:ext cx="717480" cy="7174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39840" y="98424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046fb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7ad0eb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fb6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4959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5F74-790D-44F6-AB36-CB30923C5FE2}" type="slidenum">
              <a:rPr b="0" lang="zh-CN" sz="1200" spc="-1" strike="noStrike">
                <a:solidFill>
                  <a:srgbClr val="94959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9" descr=""/>
          <p:cNvPicPr/>
          <p:nvPr/>
        </p:nvPicPr>
        <p:blipFill>
          <a:blip r:embed="rId2"/>
          <a:srcRect l="0" t="3416" r="380" b="1058"/>
          <a:stretch/>
        </p:blipFill>
        <p:spPr>
          <a:xfrm>
            <a:off x="0" y="196920"/>
            <a:ext cx="9144000" cy="6665760"/>
          </a:xfrm>
          <a:prstGeom prst="rect">
            <a:avLst/>
          </a:prstGeom>
          <a:ln w="0">
            <a:noFill/>
          </a:ln>
        </p:spPr>
      </p:pic>
      <p:sp>
        <p:nvSpPr>
          <p:cNvPr id="221" name="直接连接符 10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19080">
            <a:solidFill>
              <a:srgbClr val="c0e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pic>
        <p:nvPicPr>
          <p:cNvPr id="222" name="图片 10" descr="01300000079894122206850838787"/>
          <p:cNvPicPr/>
          <p:nvPr/>
        </p:nvPicPr>
        <p:blipFill>
          <a:blip r:embed="rId3"/>
          <a:stretch/>
        </p:blipFill>
        <p:spPr>
          <a:xfrm>
            <a:off x="212760" y="104760"/>
            <a:ext cx="717480" cy="71748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2" descr="01300000079894122206850838787"/>
          <p:cNvPicPr/>
          <p:nvPr/>
        </p:nvPicPr>
        <p:blipFill>
          <a:blip r:embed="rId4"/>
          <a:stretch/>
        </p:blipFill>
        <p:spPr>
          <a:xfrm>
            <a:off x="212760" y="104760"/>
            <a:ext cx="717480" cy="7174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339840" y="98424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046fb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7ad0eb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971280" y="333360"/>
            <a:ext cx="765324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fb6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4959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CD45-3F28-491F-A8BF-813630266401}" type="slidenum">
              <a:rPr b="0" lang="zh-CN" sz="1200" spc="-1" strike="noStrike">
                <a:solidFill>
                  <a:srgbClr val="94959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8053200" cy="15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43537"/>
                </a:solidFill>
                <a:latin typeface="微软雅黑"/>
              </a:rPr>
              <a:t>郑州大学第十二届学生思想政治工作理论研讨会</a:t>
            </a:r>
            <a:endParaRPr b="1" lang="en-US" sz="4400" spc="-1" strike="noStrike">
              <a:solidFill>
                <a:srgbClr val="046fb6"/>
              </a:solidFill>
              <a:latin typeface="微软雅黑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2124000" y="5445000"/>
            <a:ext cx="4913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7494b"/>
                </a:solidFill>
                <a:latin typeface="楷体"/>
                <a:ea typeface="楷体"/>
              </a:rPr>
              <a:t>201</a:t>
            </a:r>
            <a:r>
              <a:rPr b="0" lang="en-US" sz="2400" spc="-1" strike="noStrike">
                <a:solidFill>
                  <a:srgbClr val="47494b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47494b"/>
                </a:solidFill>
                <a:latin typeface="楷体"/>
                <a:ea typeface="楷体"/>
              </a:rPr>
              <a:t>年</a:t>
            </a:r>
            <a:r>
              <a:rPr b="0" lang="zh-CN" sz="2400" spc="-1" strike="noStrike">
                <a:solidFill>
                  <a:srgbClr val="47494b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47494b"/>
                </a:solidFill>
                <a:latin typeface="楷体"/>
                <a:ea typeface="楷体"/>
              </a:rPr>
              <a:t>月</a:t>
            </a:r>
            <a:r>
              <a:rPr b="0" lang="en-US" sz="2400" spc="-1" strike="noStrike">
                <a:solidFill>
                  <a:srgbClr val="47494b"/>
                </a:solidFill>
                <a:latin typeface="楷体"/>
                <a:ea typeface="楷体"/>
              </a:rPr>
              <a:t>27</a:t>
            </a:r>
            <a:r>
              <a:rPr b="0" lang="zh-CN" sz="2400" spc="-1" strike="noStrike">
                <a:solidFill>
                  <a:srgbClr val="47494b"/>
                </a:solidFill>
                <a:latin typeface="楷体"/>
                <a:ea typeface="楷体"/>
              </a:rPr>
              <a:t>日</a:t>
            </a: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67" name="TextBox 1"/>
          <p:cNvSpPr/>
          <p:nvPr/>
        </p:nvSpPr>
        <p:spPr>
          <a:xfrm>
            <a:off x="2340000" y="3933720"/>
            <a:ext cx="417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43537"/>
                </a:solidFill>
                <a:latin typeface="Arial"/>
              </a:rPr>
              <a:t>总  结  汇  报</a:t>
            </a:r>
            <a:endParaRPr b="0" lang="en-US" sz="3200" spc="-1" strike="noStrike">
              <a:solidFill>
                <a:srgbClr val="47494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43537"/>
                </a:solidFill>
                <a:latin typeface="Arial"/>
              </a:rPr>
              <a:t>（第六组）</a:t>
            </a: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39840" y="983880"/>
            <a:ext cx="836136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fb6"/>
                </a:solidFill>
                <a:latin typeface="Arial"/>
              </a:rPr>
              <a:t>小组成员</a:t>
            </a:r>
            <a:endParaRPr b="0" lang="en-US" sz="2800" spc="-1" strike="noStrike">
              <a:solidFill>
                <a:srgbClr val="046fb6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buClr>
                <a:srgbClr val="046fb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fb6"/>
                </a:solidFill>
                <a:latin typeface="Arial"/>
              </a:rPr>
              <a:t>第六组的</a:t>
            </a: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49</a:t>
            </a:r>
            <a:r>
              <a:rPr b="0" lang="zh-CN" sz="2000" spc="-1" strike="noStrike">
                <a:solidFill>
                  <a:srgbClr val="046fb6"/>
                </a:solidFill>
                <a:latin typeface="Arial"/>
              </a:rPr>
              <a:t>位成员来自学校</a:t>
            </a:r>
            <a:r>
              <a:rPr b="0" lang="en-US" sz="2000" spc="-1" strike="noStrike">
                <a:solidFill>
                  <a:srgbClr val="046fb6"/>
                </a:solidFill>
                <a:latin typeface="Arial"/>
              </a:rPr>
              <a:t>26</a:t>
            </a:r>
            <a:r>
              <a:rPr b="0" lang="zh-CN" sz="2000" spc="-1" strike="noStrike">
                <a:solidFill>
                  <a:srgbClr val="046fb6"/>
                </a:solidFill>
                <a:latin typeface="Arial"/>
              </a:rPr>
              <a:t>个院（系），成员覆盖四个校区，力学与工程科学学院党委副书记潘永健担任组长。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755640" y="33336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900000" y="282600"/>
            <a:ext cx="61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22b1de"/>
                </a:solidFill>
                <a:latin typeface="楷体"/>
                <a:ea typeface="楷体"/>
              </a:rPr>
              <a:t>郑州大学第十二届学生思想政治工作理论研讨会暨学生工作论坛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687240" cy="68904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5" descr="DSC04044"/>
          <p:cNvPicPr/>
          <p:nvPr/>
        </p:nvPicPr>
        <p:blipFill>
          <a:blip r:embed="rId2"/>
          <a:stretch/>
        </p:blipFill>
        <p:spPr>
          <a:xfrm>
            <a:off x="971640" y="2708280"/>
            <a:ext cx="691200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3"/>
          <p:cNvSpPr/>
          <p:nvPr/>
        </p:nvSpPr>
        <p:spPr>
          <a:xfrm>
            <a:off x="900000" y="282600"/>
            <a:ext cx="61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22b1de"/>
                </a:solidFill>
                <a:latin typeface="楷体"/>
                <a:ea typeface="楷体"/>
              </a:rPr>
              <a:t>郑州大学第十二届学生思想政治工作理论研讨会暨学生工作论坛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687240" cy="689040"/>
          </a:xfrm>
          <a:prstGeom prst="rect">
            <a:avLst/>
          </a:prstGeom>
          <a:ln w="0">
            <a:noFill/>
          </a:ln>
        </p:spPr>
      </p:pic>
      <p:pic>
        <p:nvPicPr>
          <p:cNvPr id="275" name="内容占位符 3" descr=""/>
          <p:cNvPicPr/>
          <p:nvPr/>
        </p:nvPicPr>
        <p:blipFill>
          <a:blip r:embed="rId2"/>
          <a:stretch/>
        </p:blipFill>
        <p:spPr>
          <a:xfrm>
            <a:off x="1476360" y="1700280"/>
            <a:ext cx="5630760" cy="316872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2"/>
          <p:cNvSpPr/>
          <p:nvPr/>
        </p:nvSpPr>
        <p:spPr>
          <a:xfrm>
            <a:off x="3492360" y="1052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fb6"/>
                </a:solidFill>
                <a:latin typeface="Arial"/>
              </a:rPr>
              <a:t>问题收集</a:t>
            </a: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77" name="内容占位符 2"/>
          <p:cNvSpPr/>
          <p:nvPr/>
        </p:nvSpPr>
        <p:spPr>
          <a:xfrm>
            <a:off x="468360" y="5084640"/>
            <a:ext cx="836136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046fb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fb6"/>
                </a:solidFill>
                <a:latin typeface="Arial"/>
              </a:rPr>
              <a:t>小组成员提前将日常工作中遇到的困难和存在的问题提交，由力学与工程科学学院同仁进行汇总整理，制作问卷。</a:t>
            </a:r>
            <a:endParaRPr b="0" lang="en-US" sz="20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44160" y="984240"/>
            <a:ext cx="845676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46fb6"/>
                </a:solidFill>
                <a:latin typeface="Arial"/>
              </a:rPr>
              <a:t>问题分类</a:t>
            </a:r>
            <a:endParaRPr b="0" lang="en-US" sz="2800" spc="-1" strike="noStrike">
              <a:solidFill>
                <a:srgbClr val="046fb6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046fb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79" name="TextBox 6"/>
          <p:cNvSpPr/>
          <p:nvPr/>
        </p:nvSpPr>
        <p:spPr>
          <a:xfrm>
            <a:off x="900000" y="282600"/>
            <a:ext cx="61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22b1de"/>
                </a:solidFill>
                <a:latin typeface="楷体"/>
                <a:ea typeface="楷体"/>
              </a:rPr>
              <a:t>郑州大学第十二届学生思想政治工作理论研讨会暨学生工作论坛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687240" cy="689040"/>
          </a:xfrm>
          <a:prstGeom prst="rect">
            <a:avLst/>
          </a:prstGeom>
          <a:ln w="0">
            <a:noFill/>
          </a:ln>
        </p:spPr>
      </p:pic>
      <p:sp>
        <p:nvSpPr>
          <p:cNvPr id="281" name="文本框 1"/>
          <p:cNvSpPr/>
          <p:nvPr/>
        </p:nvSpPr>
        <p:spPr>
          <a:xfrm>
            <a:off x="6089760" y="315432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</p:txBody>
      </p:sp>
      <p:pic>
        <p:nvPicPr>
          <p:cNvPr id="282" name="内容占位符 3" descr=""/>
          <p:cNvPicPr/>
          <p:nvPr/>
        </p:nvPicPr>
        <p:blipFill>
          <a:blip r:embed="rId2"/>
          <a:stretch/>
        </p:blipFill>
        <p:spPr>
          <a:xfrm>
            <a:off x="920880" y="1577880"/>
            <a:ext cx="738504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39840" y="984240"/>
            <a:ext cx="836136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046fb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46fb6"/>
                </a:solidFill>
                <a:latin typeface="Arial"/>
              </a:rPr>
              <a:t>   </a:t>
            </a:r>
            <a:r>
              <a:rPr b="0" sz="2400" spc="-1" strike="noStrike">
                <a:solidFill>
                  <a:srgbClr val="046fb6"/>
                </a:solidFill>
                <a:latin typeface="Arial"/>
              </a:rPr>
              <a:t>学生培养类：</a:t>
            </a:r>
            <a:endParaRPr b="0" lang="en-US" sz="2400" spc="-1" strike="noStrike">
              <a:solidFill>
                <a:srgbClr val="046fb6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46fb6"/>
                </a:solidFill>
                <a:latin typeface="Arial"/>
              </a:rPr>
              <a:t>1</a:t>
            </a:r>
            <a:r>
              <a:rPr b="0" sz="2000" spc="-1" strike="noStrike">
                <a:solidFill>
                  <a:srgbClr val="046fb6"/>
                </a:solidFill>
                <a:latin typeface="Arial"/>
              </a:rPr>
              <a:t>、学风建设（</a:t>
            </a:r>
            <a:r>
              <a:rPr b="0" sz="1800" spc="-1" strike="noStrike">
                <a:solidFill>
                  <a:srgbClr val="046fb6"/>
                </a:solidFill>
                <a:latin typeface="Arial"/>
              </a:rPr>
              <a:t>潘永健、赵昕等</a:t>
            </a:r>
            <a:r>
              <a:rPr b="0" sz="2000" spc="-1" strike="noStrike">
                <a:solidFill>
                  <a:srgbClr val="046fb6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46fb6"/>
                </a:solidFill>
                <a:latin typeface="Arial"/>
              </a:rPr>
              <a:t>2</a:t>
            </a:r>
            <a:r>
              <a:rPr b="0" sz="2000" spc="-1" strike="noStrike">
                <a:solidFill>
                  <a:srgbClr val="046fb6"/>
                </a:solidFill>
                <a:latin typeface="Arial"/>
              </a:rPr>
              <a:t>、学生管理（</a:t>
            </a:r>
            <a:r>
              <a:rPr b="0" sz="1800" spc="-1" strike="noStrike">
                <a:solidFill>
                  <a:srgbClr val="046fb6"/>
                </a:solidFill>
                <a:latin typeface="Arial"/>
              </a:rPr>
              <a:t>雷延峰、王亚灵等</a:t>
            </a:r>
            <a:r>
              <a:rPr b="0" sz="2000" spc="-1" strike="noStrike">
                <a:solidFill>
                  <a:srgbClr val="046fb6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46fb6"/>
                </a:solidFill>
                <a:latin typeface="Arial"/>
              </a:rPr>
              <a:t>3</a:t>
            </a:r>
            <a:r>
              <a:rPr b="0" sz="2000" spc="-1" strike="noStrike">
                <a:solidFill>
                  <a:srgbClr val="046fb6"/>
                </a:solidFill>
                <a:latin typeface="Arial"/>
              </a:rPr>
              <a:t>、思想引导（</a:t>
            </a:r>
            <a:r>
              <a:rPr b="0" sz="1800" spc="-1" strike="noStrike">
                <a:solidFill>
                  <a:srgbClr val="046fb6"/>
                </a:solidFill>
                <a:latin typeface="Arial"/>
              </a:rPr>
              <a:t>赵强、范媛媛等</a:t>
            </a:r>
            <a:r>
              <a:rPr b="0" sz="2000" spc="-1" strike="noStrike">
                <a:solidFill>
                  <a:srgbClr val="046fb6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46fb6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46fb6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046fb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46fb6"/>
                </a:solidFill>
                <a:latin typeface="Arial"/>
              </a:rPr>
              <a:t>突发事件类</a:t>
            </a:r>
            <a:endParaRPr b="0" lang="en-US" sz="2400" spc="-1" strike="noStrike">
              <a:solidFill>
                <a:srgbClr val="046fb6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46fb6"/>
                </a:solidFill>
                <a:latin typeface="Arial"/>
              </a:rPr>
              <a:t>     </a:t>
            </a:r>
            <a:r>
              <a:rPr b="0" sz="1800" spc="-1" strike="noStrike">
                <a:solidFill>
                  <a:srgbClr val="046fb6"/>
                </a:solidFill>
                <a:latin typeface="Arial"/>
              </a:rPr>
              <a:t>薛川、陈宏业等</a:t>
            </a:r>
            <a:endParaRPr b="0" lang="en-US" sz="1800" spc="-1" strike="noStrike">
              <a:solidFill>
                <a:srgbClr val="046fb6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046fb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46fb6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046fb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46fb6"/>
                </a:solidFill>
                <a:latin typeface="Arial"/>
              </a:rPr>
              <a:t>辅导员能力提升类</a:t>
            </a:r>
            <a:endParaRPr b="0" lang="en-US" sz="2400" spc="-1" strike="noStrike">
              <a:solidFill>
                <a:srgbClr val="046fb6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46fb6"/>
                </a:solidFill>
                <a:latin typeface="Arial"/>
              </a:rPr>
              <a:t>     </a:t>
            </a:r>
            <a:r>
              <a:rPr b="0" sz="1800" spc="-1" strike="noStrike">
                <a:solidFill>
                  <a:srgbClr val="046fb6"/>
                </a:solidFill>
                <a:latin typeface="Arial"/>
              </a:rPr>
              <a:t>徐承向、宋金露、张豪剑等</a:t>
            </a:r>
            <a:endParaRPr b="0" lang="en-US" sz="1800" spc="-1" strike="noStrike">
              <a:solidFill>
                <a:srgbClr val="046fb6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fb6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fb6"/>
              </a:solidFill>
              <a:latin typeface="Arial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900000" y="282600"/>
            <a:ext cx="61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22b1de"/>
                </a:solidFill>
                <a:latin typeface="楷体"/>
                <a:ea typeface="楷体"/>
              </a:rPr>
              <a:t>郑州大学第十二届学生思想政治工作理论研讨会暨学生工作论坛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68724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内容占位符 2"/>
          <p:cNvSpPr/>
          <p:nvPr/>
        </p:nvSpPr>
        <p:spPr>
          <a:xfrm>
            <a:off x="339840" y="984240"/>
            <a:ext cx="836136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47494b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046fb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46fb6"/>
                </a:solidFill>
                <a:latin typeface="Arial"/>
              </a:rPr>
              <a:t>学生心理问题类</a:t>
            </a: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46fb6"/>
                </a:solidFill>
                <a:latin typeface="Arial"/>
              </a:rPr>
              <a:t>     </a:t>
            </a:r>
            <a:r>
              <a:rPr b="0" sz="1800" spc="-1" strike="noStrike">
                <a:solidFill>
                  <a:srgbClr val="046fb6"/>
                </a:solidFill>
                <a:latin typeface="Arial"/>
              </a:rPr>
              <a:t>赵强、鲁帅等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046fb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046fb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46fb6"/>
                </a:solidFill>
                <a:latin typeface="Arial"/>
              </a:rPr>
              <a:t>学生宿舍问题类</a:t>
            </a:r>
            <a:endParaRPr b="0" lang="en-US" sz="2400" spc="-1" strike="noStrike">
              <a:solidFill>
                <a:srgbClr val="47494b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46fb6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46fb6"/>
                </a:solidFill>
                <a:latin typeface="Arial"/>
              </a:rPr>
              <a:t>于鹏飞、王越等</a:t>
            </a: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900000" y="282600"/>
            <a:ext cx="61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22b1de"/>
                </a:solidFill>
                <a:latin typeface="楷体"/>
                <a:ea typeface="楷体"/>
              </a:rPr>
              <a:t>郑州大学第十二届学生思想政治工作理论研讨会暨学生工作论坛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687240" cy="689040"/>
          </a:xfrm>
          <a:prstGeom prst="rect">
            <a:avLst/>
          </a:prstGeom>
          <a:ln w="0">
            <a:noFill/>
          </a:ln>
        </p:spPr>
      </p:pic>
      <p:sp>
        <p:nvSpPr>
          <p:cNvPr id="289" name="内容占位符 1"/>
          <p:cNvSpPr/>
          <p:nvPr/>
        </p:nvSpPr>
        <p:spPr>
          <a:xfrm>
            <a:off x="339840" y="984240"/>
            <a:ext cx="8361360" cy="47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fb6"/>
                </a:solidFill>
                <a:latin typeface="Arial"/>
              </a:rPr>
              <a:t>投票结果</a:t>
            </a:r>
            <a:endParaRPr b="0" lang="en-US" sz="2800" spc="-1" strike="noStrike">
              <a:solidFill>
                <a:srgbClr val="47494b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47494b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fb6"/>
                </a:solidFill>
                <a:latin typeface="Arial"/>
              </a:rPr>
              <a:t>经小组成员讨论投票，得到排名最靠前， 也是辅导员们较为关注的两个问题：</a:t>
            </a:r>
            <a:endParaRPr b="0" lang="en-US" sz="2200" spc="-1" strike="noStrike">
              <a:solidFill>
                <a:srgbClr val="47494b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buClr>
                <a:srgbClr val="046fb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fb6"/>
                </a:solidFill>
                <a:latin typeface="Arial"/>
              </a:rPr>
              <a:t>如何引导学生干部在学风建设中发挥影响力？</a:t>
            </a:r>
            <a:endParaRPr b="0" lang="en-US" sz="2000" spc="-1" strike="noStrike">
              <a:solidFill>
                <a:srgbClr val="47494b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buClr>
                <a:srgbClr val="046fb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fb6"/>
                </a:solidFill>
                <a:latin typeface="Arial"/>
              </a:rPr>
              <a:t>学生专业思想不稳，当前很多学生是被调剂到录取专业进行学习的，学生专业归属感不强，学习动力欠缺，该如何有效引导？ </a:t>
            </a:r>
            <a:endParaRPr b="0" lang="en-US" sz="20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24000" y="907920"/>
            <a:ext cx="8361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46fb6"/>
                </a:solidFill>
                <a:latin typeface="Arial"/>
                <a:ea typeface="黑体"/>
              </a:rPr>
              <a:t>现场讨论</a:t>
            </a:r>
            <a:endParaRPr b="0" lang="en-US" sz="3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900000" y="282600"/>
            <a:ext cx="61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22b1de"/>
                </a:solidFill>
                <a:latin typeface="楷体"/>
                <a:ea typeface="楷体"/>
              </a:rPr>
              <a:t>郑州大学第十二届学生思想政治工作理论研讨会暨学生工作论坛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687240" cy="689040"/>
          </a:xfrm>
          <a:prstGeom prst="rect">
            <a:avLst/>
          </a:prstGeom>
          <a:ln w="0">
            <a:noFill/>
          </a:ln>
        </p:spPr>
      </p:pic>
      <p:pic>
        <p:nvPicPr>
          <p:cNvPr id="293" name="内容占位符 1" descr="DSC04050"/>
          <p:cNvPicPr/>
          <p:nvPr/>
        </p:nvPicPr>
        <p:blipFill>
          <a:blip r:embed="rId2"/>
          <a:srcRect l="13930" t="0" r="0" b="0"/>
          <a:stretch/>
        </p:blipFill>
        <p:spPr>
          <a:xfrm>
            <a:off x="755640" y="1916280"/>
            <a:ext cx="3263760" cy="2135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6" descr="DSC04049"/>
          <p:cNvPicPr/>
          <p:nvPr/>
        </p:nvPicPr>
        <p:blipFill>
          <a:blip r:embed="rId3"/>
          <a:stretch/>
        </p:blipFill>
        <p:spPr>
          <a:xfrm>
            <a:off x="4643280" y="1979640"/>
            <a:ext cx="3602160" cy="2025720"/>
          </a:xfrm>
          <a:prstGeom prst="rect">
            <a:avLst/>
          </a:prstGeom>
          <a:ln w="0">
            <a:noFill/>
          </a:ln>
        </p:spPr>
      </p:pic>
      <p:pic>
        <p:nvPicPr>
          <p:cNvPr id="295" name="内容占位符 3" descr="DSC04084"/>
          <p:cNvPicPr/>
          <p:nvPr/>
        </p:nvPicPr>
        <p:blipFill>
          <a:blip r:embed="rId4"/>
          <a:stretch/>
        </p:blipFill>
        <p:spPr>
          <a:xfrm>
            <a:off x="684360" y="4221000"/>
            <a:ext cx="3360600" cy="18907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8" descr="DSC04055"/>
          <p:cNvPicPr/>
          <p:nvPr/>
        </p:nvPicPr>
        <p:blipFill>
          <a:blip r:embed="rId5"/>
          <a:stretch/>
        </p:blipFill>
        <p:spPr>
          <a:xfrm>
            <a:off x="4643280" y="4221000"/>
            <a:ext cx="36007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39840" y="983880"/>
            <a:ext cx="836136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046fb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fb6"/>
                </a:solidFill>
                <a:latin typeface="楷体"/>
                <a:ea typeface="楷体"/>
              </a:rPr>
              <a:t>祝各位老师在新的一年里万事如意，阖家幸福！</a:t>
            </a:r>
            <a:endParaRPr b="0" lang="en-US" sz="2400" spc="-1" strike="noStrike">
              <a:solidFill>
                <a:srgbClr val="046fb6"/>
              </a:solidFill>
              <a:latin typeface="Arial"/>
            </a:endParaRPr>
          </a:p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046fb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fb6"/>
                </a:solidFill>
                <a:latin typeface="楷体"/>
                <a:ea typeface="楷体"/>
              </a:rPr>
              <a:t>此次研讨会的所有收获，将会在新的一年里开出美丽的花，结出漂亮的果。</a:t>
            </a:r>
            <a:endParaRPr b="0" lang="en-US" sz="2400" spc="-1" strike="noStrike">
              <a:solidFill>
                <a:srgbClr val="046fb6"/>
              </a:solidFill>
              <a:latin typeface="Arial"/>
            </a:endParaRPr>
          </a:p>
          <a:p>
            <a:pPr marL="357120" indent="-35712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46fb6"/>
                </a:solidFill>
                <a:latin typeface="黑体"/>
                <a:ea typeface="黑体"/>
              </a:rPr>
              <a:t>谢谢观看！</a:t>
            </a:r>
            <a:endParaRPr b="0" lang="en-US" sz="3600" spc="-1" strike="noStrike">
              <a:solidFill>
                <a:srgbClr val="046fb6"/>
              </a:solidFill>
              <a:latin typeface="Arial"/>
            </a:endParaRPr>
          </a:p>
        </p:txBody>
      </p:sp>
      <p:pic>
        <p:nvPicPr>
          <p:cNvPr id="298" name="图片 1" descr="nl1107092121535068"/>
          <p:cNvPicPr/>
          <p:nvPr/>
        </p:nvPicPr>
        <p:blipFill>
          <a:blip r:embed="rId1"/>
          <a:stretch/>
        </p:blipFill>
        <p:spPr>
          <a:xfrm>
            <a:off x="826920" y="3716280"/>
            <a:ext cx="6718320" cy="18306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4"/>
          <p:cNvSpPr/>
          <p:nvPr/>
        </p:nvSpPr>
        <p:spPr>
          <a:xfrm>
            <a:off x="900000" y="282600"/>
            <a:ext cx="61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22b1de"/>
                </a:solidFill>
                <a:latin typeface="楷体"/>
                <a:ea typeface="楷体"/>
              </a:rPr>
              <a:t>郑州大学第十二届学生思想政治工作理论研讨会暨学生工作论坛</a:t>
            </a:r>
            <a:endParaRPr b="0" lang="en-US" sz="1600" spc="-1" strike="noStrike">
              <a:solidFill>
                <a:srgbClr val="47494b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68724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2T19:01:20Z</dcterms:created>
  <dc:creator>Administrator</dc:creator>
  <dc:description/>
  <cp:keywords/>
  <dc:language>en-US</dc:language>
  <cp:lastModifiedBy>波 杨</cp:lastModifiedBy>
  <dcterms:modified xsi:type="dcterms:W3CDTF">2016-01-30T16:48:02Z</dcterms:modified>
  <cp:revision>53</cp:revision>
  <dc:subject/>
  <dc:title>践行社会主义核心价值观，从我做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</Properties>
</file>