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0">
              <a:spcBef>
                <a:spcPts val="624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9" descr=""/>
          <p:cNvPicPr/>
          <p:nvPr/>
        </p:nvPicPr>
        <p:blipFill>
          <a:blip r:embed="rId3"/>
          <a:stretch/>
        </p:blipFill>
        <p:spPr>
          <a:xfrm>
            <a:off x="-682560" y="2573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62" descr="妇联标-05"/>
          <p:cNvPicPr/>
          <p:nvPr/>
        </p:nvPicPr>
        <p:blipFill>
          <a:blip r:embed="rId1"/>
          <a:stretch/>
        </p:blipFill>
        <p:spPr>
          <a:xfrm>
            <a:off x="5640480" y="1430280"/>
            <a:ext cx="1141200" cy="1141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7" descr="未标题-1副本"/>
          <p:cNvPicPr/>
          <p:nvPr/>
        </p:nvPicPr>
        <p:blipFill>
          <a:blip r:embed="rId2"/>
          <a:stretch/>
        </p:blipFill>
        <p:spPr>
          <a:xfrm>
            <a:off x="0" y="0"/>
            <a:ext cx="9145440" cy="51451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6" descr="毛笔字诗词背景222"/>
          <p:cNvPicPr/>
          <p:nvPr/>
        </p:nvPicPr>
        <p:blipFill>
          <a:blip r:embed="rId3"/>
          <a:stretch/>
        </p:blipFill>
        <p:spPr>
          <a:xfrm>
            <a:off x="0" y="0"/>
            <a:ext cx="6249960" cy="35672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50" descr="金鱼02"/>
          <p:cNvPicPr/>
          <p:nvPr/>
        </p:nvPicPr>
        <p:blipFill>
          <a:blip r:embed="rId4"/>
          <a:stretch/>
        </p:blipFill>
        <p:spPr>
          <a:xfrm rot="19820400">
            <a:off x="1795320" y="3526920"/>
            <a:ext cx="878040" cy="838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9" descr="金鱼05"/>
          <p:cNvPicPr/>
          <p:nvPr/>
        </p:nvPicPr>
        <p:blipFill>
          <a:blip r:embed="rId5"/>
          <a:stretch/>
        </p:blipFill>
        <p:spPr>
          <a:xfrm flipH="1" rot="20671800">
            <a:off x="2280960" y="3417840"/>
            <a:ext cx="738000" cy="627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3" descr="荷花荷花"/>
          <p:cNvPicPr/>
          <p:nvPr/>
        </p:nvPicPr>
        <p:blipFill>
          <a:blip r:embed="rId6">
            <a:lum contrast="6000"/>
          </a:blip>
          <a:srcRect l="13627" t="0" r="0" b="5137"/>
          <a:stretch/>
        </p:blipFill>
        <p:spPr>
          <a:xfrm>
            <a:off x="0" y="820800"/>
            <a:ext cx="4040280" cy="4324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7" descr="19"/>
          <p:cNvPicPr/>
          <p:nvPr/>
        </p:nvPicPr>
        <p:blipFill>
          <a:blip r:embed="rId7"/>
          <a:stretch/>
        </p:blipFill>
        <p:spPr>
          <a:xfrm>
            <a:off x="1906560" y="1488960"/>
            <a:ext cx="657360" cy="665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58"/>
          <p:cNvSpPr/>
          <p:nvPr/>
        </p:nvSpPr>
        <p:spPr>
          <a:xfrm>
            <a:off x="0" y="1488960"/>
            <a:ext cx="9145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郑州大学第十二届</a:t>
            </a:r>
            <a:endParaRPr b="0" lang="en-US" sz="4000" spc="-1" strike="noStrike">
              <a:solidFill>
                <a:srgbClr val="33533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学生思想政治工作理论研讨会</a:t>
            </a:r>
            <a:endParaRPr b="0" lang="en-US" sz="4000" spc="-1" strike="noStrike">
              <a:solidFill>
                <a:srgbClr val="33533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组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讨论结果汇报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45" name="Picture 151" descr="小竹叶"/>
          <p:cNvPicPr/>
          <p:nvPr/>
        </p:nvPicPr>
        <p:blipFill>
          <a:blip r:embed="rId8"/>
          <a:stretch/>
        </p:blipFill>
        <p:spPr>
          <a:xfrm>
            <a:off x="6249960" y="6332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2" descr="小竹叶"/>
          <p:cNvPicPr/>
          <p:nvPr/>
        </p:nvPicPr>
        <p:blipFill>
          <a:blip r:embed="rId9"/>
          <a:stretch/>
        </p:blipFill>
        <p:spPr>
          <a:xfrm rot="19848600">
            <a:off x="6641640" y="343080"/>
            <a:ext cx="31608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3" descr="小竹叶"/>
          <p:cNvPicPr/>
          <p:nvPr/>
        </p:nvPicPr>
        <p:blipFill>
          <a:blip r:embed="rId10"/>
          <a:stretch/>
        </p:blipFill>
        <p:spPr>
          <a:xfrm rot="14532000">
            <a:off x="7013520" y="804960"/>
            <a:ext cx="573120" cy="49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4" descr="小竹叶"/>
          <p:cNvPicPr/>
          <p:nvPr/>
        </p:nvPicPr>
        <p:blipFill>
          <a:blip r:embed="rId11"/>
          <a:stretch/>
        </p:blipFill>
        <p:spPr>
          <a:xfrm rot="1173600">
            <a:off x="6075000" y="888480"/>
            <a:ext cx="496800" cy="48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5" descr="小竹叶"/>
          <p:cNvPicPr/>
          <p:nvPr/>
        </p:nvPicPr>
        <p:blipFill>
          <a:blip r:embed="rId12"/>
          <a:stretch/>
        </p:blipFill>
        <p:spPr>
          <a:xfrm rot="1007400">
            <a:off x="6446880" y="482400"/>
            <a:ext cx="642960" cy="56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6" descr="小竹叶"/>
          <p:cNvPicPr/>
          <p:nvPr/>
        </p:nvPicPr>
        <p:blipFill>
          <a:blip r:embed="rId13"/>
          <a:stretch/>
        </p:blipFill>
        <p:spPr>
          <a:xfrm rot="1173600">
            <a:off x="7064280" y="385920"/>
            <a:ext cx="41904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48 -0.04197 L 0.04548 -0.04166 C 0.09356 -0.02623 0.14303 -0.01975 0.18973 0.00617 C 0.21038 0.01728 0.24458 0.06757 0.24458 0.06788 L 0.2543 0.07806 L 0.27322 0.11848 E">
                                      <p:cBhvr>
                                        <p:cTn id="25" dur="2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83 -0.01882 L 0.06683 -0.01851 C 0.06891 -0.01913 0.07116 -0.02005 0.07342 -0.02005 C 0.09668 -0.02005 0.09269 -0.02067 0.10588 -0.01758 C 0.12133 -0.00987 0.11473 -0.01172 0.12532 -0.00956 C 0.12793 -0.00802 0.13036 -0.00617 0.13296 -0.00555 C 0.13713 -0.00431 0.14147 -0.00462 0.14563 -0.00401 C 0.14737 -0.00401 0.1491 -0.00308 0.15101 -0.00277 C 0.15362 -0.00215 0.15639 -0.00185 0.15917 -0.00154 C 0.16125 -0.00061 0.16316 0.00031 0.16525 0.00124 C 0.16594 0.00155 0.16698 0.00155 0.1675 0.00247 C 0.17219 0.0108 0.16594 0.00618 0.17132 0.00926 C 0.17896 0.01944 0.16768 0.00556 0.18104 0.01728 C 0.18208 0.01821 0.18295 0.01944 0.18399 0.02006 C 0.18625 0.02099 0.18851 0.02129 0.19076 0.02253 C 0.19267 0.02345 0.19423 0.02531 0.19597 0.02654 C 0.2017 0.03024 0.20274 0.03055 0.20812 0.03333 C 0.20881 0.03364 0.20951 0.03456 0.21038 0.03456 C 0.21333 0.03518 0.21628 0.03549 0.2194 0.0358 C 0.22062 0.03734 0.22183 0.03888 0.22305 0.03981 C 0.22513 0.04166 0.22791 0.04197 0.22982 0.04258 C 0.23086 0.04289 0.2319 0.04351 0.23294 0.04382 C 0.23746 0.04937 0.23242 0.04413 0.23884 0.04783 C 0.24075 0.04906 0.24232 0.05061 0.24423 0.05184 C 0.24596 0.05338 0.24752 0.05369 0.24943 0.05462 C 0.25047 0.05554 0.25134 0.05647 0.25238 0.05739 C 0.25395 0.05832 0.25568 0.05832 0.2569 0.05986 C 0.26384 0.06819 0.25533 0.0577 0.26072 0.06542 C 0.2621 0.06727 0.26436 0.06943 0.26592 0.07066 C 0.26662 0.07128 0.26748 0.07159 0.26818 0.0719 C 0.27165 0.07807 0.26731 0.07097 0.27269 0.07745 C 0.27339 0.07807 0.27373 0.0793 0.27425 0.07992 C 0.27512 0.08115 0.27616 0.08177 0.27721 0.0827 C 0.28224 0.09164 0.27981 0.08948 0.28398 0.09195 C 0.28727 0.09781 0.28502 0.09535 0.28936 0.09751 C 0.29005 0.09781 0.29161 0.09874 0.29161 0.09905 L 0.29977 0.108 L 0.30967 0.12157 E">
                                      <p:cBhvr>
                                        <p:cTn id="2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77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2" descr="船"/>
          <p:cNvPicPr/>
          <p:nvPr/>
        </p:nvPicPr>
        <p:blipFill>
          <a:blip r:embed="rId1"/>
          <a:stretch/>
        </p:blipFill>
        <p:spPr>
          <a:xfrm>
            <a:off x="-2894040" y="2300400"/>
            <a:ext cx="2287440" cy="904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未标题-1副本"/>
          <p:cNvPicPr/>
          <p:nvPr/>
        </p:nvPicPr>
        <p:blipFill>
          <a:blip r:embed="rId2"/>
          <a:stretch/>
        </p:blipFill>
        <p:spPr>
          <a:xfrm>
            <a:off x="0" y="0"/>
            <a:ext cx="9145440" cy="514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5" descr="荷花荷花"/>
          <p:cNvPicPr/>
          <p:nvPr/>
        </p:nvPicPr>
        <p:blipFill>
          <a:blip r:embed="rId3">
            <a:lum contrast="6000"/>
          </a:blip>
          <a:srcRect l="13627" t="0" r="0" b="5137"/>
          <a:stretch/>
        </p:blipFill>
        <p:spPr>
          <a:xfrm>
            <a:off x="0" y="820800"/>
            <a:ext cx="4040280" cy="432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0" descr="卷轴"/>
          <p:cNvPicPr/>
          <p:nvPr/>
        </p:nvPicPr>
        <p:blipFill>
          <a:blip r:embed="rId4"/>
          <a:srcRect l="5964" t="0" r="0" b="0"/>
          <a:stretch/>
        </p:blipFill>
        <p:spPr>
          <a:xfrm>
            <a:off x="1373040" y="657360"/>
            <a:ext cx="6647040" cy="3495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1" descr="卷轴"/>
          <p:cNvPicPr/>
          <p:nvPr/>
        </p:nvPicPr>
        <p:blipFill>
          <a:blip r:embed="rId5"/>
          <a:srcRect l="0" t="0" r="94894" b="0"/>
          <a:stretch/>
        </p:blipFill>
        <p:spPr>
          <a:xfrm>
            <a:off x="1095480" y="515880"/>
            <a:ext cx="360360" cy="3494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057400" y="2376360"/>
            <a:ext cx="5030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055960" y="2378160"/>
            <a:ext cx="5030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733400" y="1228680"/>
            <a:ext cx="55072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22a2a"/>
                </a:solidFill>
                <a:latin typeface="楷体"/>
                <a:ea typeface="楷体"/>
              </a:rPr>
              <a:t>祝各位老师</a:t>
            </a:r>
            <a:r>
              <a:rPr b="1" lang="zh-CN" sz="4000" spc="-1" strike="noStrike">
                <a:solidFill>
                  <a:srgbClr val="f22a2a"/>
                </a:solidFill>
                <a:latin typeface="楷体"/>
                <a:ea typeface="楷体"/>
              </a:rPr>
              <a:t>：</a:t>
            </a:r>
            <a:endParaRPr b="0" lang="en-US" sz="40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2a2a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22a2a"/>
                </a:solidFill>
                <a:latin typeface="楷体"/>
                <a:ea typeface="楷体"/>
              </a:rPr>
              <a:t>身体健康  工作顺利</a:t>
            </a:r>
            <a:endParaRPr b="0" lang="en-US" sz="40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2a2a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22a2a"/>
                </a:solidFill>
                <a:latin typeface="楷体"/>
                <a:ea typeface="楷体"/>
              </a:rPr>
              <a:t>阖家欢乐  吉祥如意</a:t>
            </a:r>
            <a:endParaRPr b="0" lang="en-US" sz="40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611280" y="363600"/>
            <a:ext cx="685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5338"/>
                </a:solidFill>
                <a:latin typeface="黑体"/>
                <a:ea typeface="黑体"/>
              </a:rPr>
              <a:t>一、小组成员介绍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52" name="图片 7" descr="屏幕剪辑"/>
          <p:cNvPicPr/>
          <p:nvPr/>
        </p:nvPicPr>
        <p:blipFill>
          <a:blip r:embed="rId1"/>
          <a:stretch/>
        </p:blipFill>
        <p:spPr>
          <a:xfrm>
            <a:off x="77760" y="896760"/>
            <a:ext cx="4191120" cy="38768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8" descr="屏幕剪辑"/>
          <p:cNvPicPr/>
          <p:nvPr/>
        </p:nvPicPr>
        <p:blipFill>
          <a:blip r:embed="rId2"/>
          <a:stretch/>
        </p:blipFill>
        <p:spPr>
          <a:xfrm>
            <a:off x="4344840" y="135000"/>
            <a:ext cx="4722840" cy="463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屏幕剪辑"/>
          <p:cNvPicPr/>
          <p:nvPr/>
        </p:nvPicPr>
        <p:blipFill>
          <a:blip r:embed="rId1"/>
          <a:stretch/>
        </p:blipFill>
        <p:spPr>
          <a:xfrm>
            <a:off x="154080" y="504720"/>
            <a:ext cx="3962160" cy="41356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屏幕剪辑"/>
          <p:cNvPicPr/>
          <p:nvPr/>
        </p:nvPicPr>
        <p:blipFill>
          <a:blip r:embed="rId2"/>
          <a:stretch/>
        </p:blipFill>
        <p:spPr>
          <a:xfrm>
            <a:off x="4573440" y="3029040"/>
            <a:ext cx="4140360" cy="1611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4497480" y="820800"/>
            <a:ext cx="289404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第四组共有来自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个院系以及学生处的老师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名组成，于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016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7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日下午在基础医学院学术报告厅进行小组讨论</a:t>
            </a:r>
            <a:r>
              <a:rPr b="0" lang="zh-CN" sz="1600" spc="-1" strike="noStrike">
                <a:solidFill>
                  <a:srgbClr val="335338"/>
                </a:solidFill>
                <a:latin typeface="Verdana"/>
              </a:rPr>
              <a:t>。</a:t>
            </a:r>
            <a:endParaRPr b="0" lang="en-US" sz="16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1"/>
          <p:cNvPicPr/>
          <p:nvPr/>
        </p:nvPicPr>
        <p:blipFill>
          <a:blip r:embed="rId1"/>
          <a:stretch/>
        </p:blipFill>
        <p:spPr>
          <a:xfrm>
            <a:off x="685800" y="209520"/>
            <a:ext cx="3273480" cy="2455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4"/>
          <p:cNvPicPr/>
          <p:nvPr/>
        </p:nvPicPr>
        <p:blipFill>
          <a:blip r:embed="rId2"/>
          <a:stretch/>
        </p:blipFill>
        <p:spPr>
          <a:xfrm>
            <a:off x="4191120" y="285840"/>
            <a:ext cx="3187440" cy="2390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2"/>
          <p:cNvPicPr/>
          <p:nvPr/>
        </p:nvPicPr>
        <p:blipFill>
          <a:blip r:embed="rId3"/>
          <a:stretch/>
        </p:blipFill>
        <p:spPr>
          <a:xfrm>
            <a:off x="689040" y="2649600"/>
            <a:ext cx="3286080" cy="21794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3"/>
          <p:cNvPicPr/>
          <p:nvPr/>
        </p:nvPicPr>
        <p:blipFill>
          <a:blip r:embed="rId4"/>
          <a:stretch/>
        </p:blipFill>
        <p:spPr>
          <a:xfrm>
            <a:off x="4192560" y="2647800"/>
            <a:ext cx="3173400" cy="2211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861680" y="1735200"/>
            <a:ext cx="59652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5338"/>
                </a:solidFill>
                <a:latin typeface="黑体"/>
                <a:ea typeface="黑体"/>
              </a:rPr>
              <a:t>第四组老师进行热烈的讨论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c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"/>
          <p:cNvSpPr/>
          <p:nvPr/>
        </p:nvSpPr>
        <p:spPr>
          <a:xfrm>
            <a:off x="76320" y="57240"/>
            <a:ext cx="8689680" cy="79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1e0c"/>
                </a:solidFill>
                <a:latin typeface="华文中宋"/>
                <a:ea typeface="华文中宋"/>
              </a:rPr>
              <a:t>二、第四组提出的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促进学风建设与教风建设起头并进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落实大学生身心健康教育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社会主义核心价值观教育与传统思想道德教育结合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抓好学生工作的重点 加强学生干部队伍建设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开展好辅导员职业能力建设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能否实行副科级辅导员与正科级辅导员，稳定辅导员队伍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解决大学生网瘾问题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解决大学生价值观庸俗化问题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在事务性工作中辅导员如何创新管理方式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在满足职业能力要求的基础上有辅导员有所成长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学生就业意识较弱，怎么办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贷款催款工作如何落实的更好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特殊群体学生的引导与关注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高年级学生的管理与服务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辅导员如何将理论学习与学生实际工作相结合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c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"/>
          <p:cNvSpPr/>
          <p:nvPr/>
        </p:nvSpPr>
        <p:spPr>
          <a:xfrm>
            <a:off x="76320" y="209520"/>
            <a:ext cx="763560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确诊有心理问题的学生的引导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越级向领导反映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混合寝室的矛盾与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宿舍文化建设 宿舍管理断网断电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与附属医院合作 建立沟通机制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文科生在理科学习方面的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减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间数量，增进同学间交流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心理咨询与就业指导专业化培训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辅导员加班时 安排家属在学校临时住宿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生自我引导 人际交往素质提升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加入辅导员素质教育 人文教育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关注少数民族同学的方式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年轻辅导员的事务管理与理论思考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年轻辅导员政治理论素养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c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"/>
          <p:cNvSpPr/>
          <p:nvPr/>
        </p:nvSpPr>
        <p:spPr>
          <a:xfrm>
            <a:off x="76320" y="285840"/>
            <a:ext cx="845820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风建设如何长效化的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国际化教育下的学生工作管理模式的创新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提升学生情商教育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建设郑州大学特色的校园文化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建设互联网宣传阵地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稳定辅导员队伍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量化辅导员绩效考核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发挥学生党员先进性模范带头作用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正确引导大学生恋爱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协调传统阅读与电子阅读关系的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何提高学生网络自律意识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发展党员时如何制定细致量化考核标准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人际交往能力与文明礼仪能否转为必修课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生饮食障碍 过度节食 暴饮暴食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c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"/>
          <p:cNvSpPr/>
          <p:nvPr/>
        </p:nvSpPr>
        <p:spPr>
          <a:xfrm>
            <a:off x="82440" y="324000"/>
            <a:ext cx="938844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国家、励志奖学金评定时填表过于繁琐，如何简化？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辅导员与学生的思想代沟如何化解问题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辅导员之间加强交流过少，应加强交流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06360" y="2116080"/>
            <a:ext cx="792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经过热烈的讨论，第四组老师共提出工作中存在的问题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46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项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c3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2"/>
          <p:cNvSpPr/>
          <p:nvPr/>
        </p:nvSpPr>
        <p:spPr>
          <a:xfrm>
            <a:off x="782640" y="460440"/>
            <a:ext cx="7473960" cy="61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1e0c"/>
                </a:solidFill>
                <a:latin typeface="华文中宋"/>
                <a:ea typeface="华文中宋"/>
              </a:rPr>
              <a:t>三、经投票，第四组辅导员关注度最高的问题：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如何将学风建设与教风建设相结合，齐头并进；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大学生身心健康教育问题。提倡在关注大学生心理健康的同时，关注学生身体素质；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为了稳定辅导员队伍，打造一支专业化、职业化的辅导员队伍，能否在工作中实行副科级辅导员与正科级辅导员制度。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00Z</dcterms:created>
  <dc:creator>Sung Ha, Park</dc:creator>
  <dc:description/>
  <cp:keywords/>
  <dc:language>en-US</dc:language>
  <cp:lastModifiedBy>NicoZhang</cp:lastModifiedBy>
  <dcterms:modified xsi:type="dcterms:W3CDTF">2016-01-31T03:22:52Z</dcterms:modified>
  <cp:revision>37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