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122-12F0-4882-BF16-9E621812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464-686E-40B4-8D69-2D715F0C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01F-3684-448B-991B-525A04AC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C93-E3D9-4EC8-91C4-15166475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F4F-67A4-459B-B3CD-7E6C3140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A14C-FAEF-4D28-984B-FEB6055D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FE4-0B74-4843-9556-C9ACA62B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996B-6A3E-4F04-969B-CB589AE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A5B9-9EFD-4532-8602-9133CD8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DDBD-5BC2-4555-B6A6-D7A1129D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C042-5136-49E0-89C4-BCE64FC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D8B-5875-4C9F-B4EA-B7C15AB2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A206-6D7D-470F-A6C4-E8D913D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0D0C-9B30-4A53-BB69-408A15F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8F36-5C55-4161-B186-775649F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36C-DDE0-4085-81A2-251B9D1E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95B-1AC7-4077-87AC-3F2724CB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BDF9-51A1-4A1B-A410-4F3DB811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CA77-FEEC-4F12-AB3B-E285327A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5B69-0E02-4C01-B2A1-14F15D3C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BAD7-2FF3-4E9B-BB38-3E33477C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44A7-16B8-410E-841F-5B8737FE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2A9-0A5C-4E2C-A6BE-83618F1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A301-728C-4D96-A669-59F3A97F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50C6-043A-4F17-A1E2-223D2DF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CBB0-ADA5-4B5D-ADA9-0282CB9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7B54-9FC9-4D34-9D1B-D2DEDC9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4E6A-8117-4F83-BAC1-497B0207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99AF-EA20-4350-A87C-4AB27587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74D3-A64C-43C7-9386-DDC1D9F5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7B6B-748A-495B-8E90-8AB59F24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EC95-F6D3-49D4-84D6-14A2961A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F76B-0C7F-4D3B-BCD6-67F60498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BAF-70E3-467C-A55B-3E58C52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EFB9-C566-4050-A301-5DECC458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D2F96-5860-474E-AD2B-A3C2E4D6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CFAD-5695-435F-B747-104C14B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9E04-FF00-43E5-9D32-6274B6E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0E05-DDA3-4AAB-9A33-8F35F51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46A9-9238-460D-BD8D-3E8155B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78091-024C-4FD0-87E0-3C4026C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BADC4-B108-4006-B49A-9687DE05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554F-390A-4C04-A5DA-3D5C0C43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EBC8-23B9-44DF-A2A1-2F677CAC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950-452F-4858-AD3A-D4B2258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97EB8-3E41-451D-990A-8DCA1FB0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8A59C-8C0E-4E75-A6C9-2188942F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CC10-720B-4CBE-944D-9BDED62B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6EDE-F523-4CF8-85CA-E11768A1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208DF-E23B-4B2E-AF8C-F06399F5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CB48F-2768-4BE0-8260-15A2126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754B-A87A-4D60-AC18-9E872AE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333E0-6D3A-43DE-8270-9FD53FB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9E25-1E6B-418C-B052-6788433E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062C-764B-41CA-9A2A-BAF2CBB7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36B-6D7E-46C3-9E14-AE71BFB8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BB2BC-23B0-49A2-B3F0-750877E9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DE1-5A55-40FD-B6D6-D9F7546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9D2-EA02-4DE8-B9F2-B60DA581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2BD-E067-482B-B497-AEB8253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FD2-9198-4083-9433-D1A302183CC3}" type="datetime"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7987-E339-4368-9612-E887EBF891B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组合 24"/>
          <p:cNvGrpSpPr/>
          <p:nvPr/>
        </p:nvGrpSpPr>
        <p:grpSpPr>
          <a:xfrm>
            <a:off x="0" y="-409680"/>
            <a:ext cx="9604080" cy="5553360"/>
            <a:chOff x="0" y="-409680"/>
            <a:chExt cx="9604080" cy="5553360"/>
          </a:xfrm>
        </p:grpSpPr>
        <p:sp>
          <p:nvSpPr>
            <p:cNvPr id="40" name="矩形 25"/>
            <p:cNvSpPr/>
            <p:nvPr/>
          </p:nvSpPr>
          <p:spPr>
            <a:xfrm>
              <a:off x="0" y="360"/>
              <a:ext cx="9146880" cy="514332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直角三角形 120"/>
            <p:cNvSpPr/>
            <p:nvPr/>
          </p:nvSpPr>
          <p:spPr>
            <a:xfrm rot="8990400">
              <a:off x="6766560" y="2096640"/>
              <a:ext cx="1669680" cy="98172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直角三角形 121"/>
            <p:cNvSpPr/>
            <p:nvPr/>
          </p:nvSpPr>
          <p:spPr>
            <a:xfrm rot="5358000">
              <a:off x="6311520" y="3001320"/>
              <a:ext cx="169812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角三角形 122"/>
            <p:cNvSpPr/>
            <p:nvPr/>
          </p:nvSpPr>
          <p:spPr>
            <a:xfrm rot="1804800">
              <a:off x="6856560" y="3817800"/>
              <a:ext cx="1698480" cy="96480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任意多边形 29"/>
            <p:cNvSpPr/>
            <p:nvPr/>
          </p:nvSpPr>
          <p:spPr>
            <a:xfrm rot="19790400">
              <a:off x="7895520" y="3920760"/>
              <a:ext cx="1198080" cy="981720"/>
            </a:xfrm>
            <a:custGeom>
              <a:avLst/>
              <a:gdLst/>
              <a:ahLst/>
              <a:rect l="l" t="t" r="r" b="b"/>
              <a:pathLst>
                <a:path w="1597713" h="1309049">
                  <a:moveTo>
                    <a:pt x="0" y="0"/>
                  </a:moveTo>
                  <a:lnTo>
                    <a:pt x="1597713" y="939480"/>
                  </a:lnTo>
                  <a:lnTo>
                    <a:pt x="1382999" y="1309049"/>
                  </a:lnTo>
                  <a:lnTo>
                    <a:pt x="0" y="1309049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任意多边形 30"/>
            <p:cNvSpPr/>
            <p:nvPr/>
          </p:nvSpPr>
          <p:spPr>
            <a:xfrm rot="16084200">
              <a:off x="8512200" y="3645360"/>
              <a:ext cx="792000" cy="450000"/>
            </a:xfrm>
            <a:custGeom>
              <a:avLst/>
              <a:gdLst/>
              <a:ahLst/>
              <a:rect l="l" t="t" r="r" b="b"/>
              <a:pathLst>
                <a:path w="1056335" h="600268">
                  <a:moveTo>
                    <a:pt x="1056335" y="600268"/>
                  </a:moveTo>
                  <a:lnTo>
                    <a:pt x="0" y="5648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任意多边形 31"/>
            <p:cNvSpPr/>
            <p:nvPr/>
          </p:nvSpPr>
          <p:spPr>
            <a:xfrm rot="12590400">
              <a:off x="7742880" y="2097720"/>
              <a:ext cx="1698480" cy="964800"/>
            </a:xfrm>
            <a:custGeom>
              <a:avLst/>
              <a:gdLst/>
              <a:ahLst/>
              <a:rect l="l" t="t" r="r" b="b"/>
              <a:pathLst>
                <a:path w="2264591" h="1286867">
                  <a:moveTo>
                    <a:pt x="2264591" y="1286867"/>
                  </a:moveTo>
                  <a:lnTo>
                    <a:pt x="689960" y="1286867"/>
                  </a:lnTo>
                  <a:lnTo>
                    <a:pt x="0" y="84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角三角形 109"/>
            <p:cNvSpPr/>
            <p:nvPr/>
          </p:nvSpPr>
          <p:spPr>
            <a:xfrm rot="5358000">
              <a:off x="7700040" y="339480"/>
              <a:ext cx="164376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任意多边形 33"/>
            <p:cNvSpPr/>
            <p:nvPr/>
          </p:nvSpPr>
          <p:spPr>
            <a:xfrm rot="1804800">
              <a:off x="8251560" y="1001520"/>
              <a:ext cx="1190520" cy="964800"/>
            </a:xfrm>
            <a:custGeom>
              <a:avLst/>
              <a:gdLst/>
              <a:ahLst/>
              <a:rect l="l" t="t" r="r" b="b"/>
              <a:pathLst>
                <a:path w="1587649" h="1286867">
                  <a:moveTo>
                    <a:pt x="0" y="0"/>
                  </a:moveTo>
                  <a:lnTo>
                    <a:pt x="1255342" y="713355"/>
                  </a:lnTo>
                  <a:lnTo>
                    <a:pt x="1587649" y="1286867"/>
                  </a:lnTo>
                  <a:lnTo>
                    <a:pt x="0" y="1286867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直角三角形 135"/>
            <p:cNvSpPr/>
            <p:nvPr/>
          </p:nvSpPr>
          <p:spPr>
            <a:xfrm rot="5358000">
              <a:off x="4654080" y="347040"/>
              <a:ext cx="169812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角三角形 136"/>
            <p:cNvSpPr/>
            <p:nvPr/>
          </p:nvSpPr>
          <p:spPr>
            <a:xfrm rot="1804800">
              <a:off x="5199120" y="1162800"/>
              <a:ext cx="1698480" cy="96480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角三角形 137"/>
            <p:cNvSpPr/>
            <p:nvPr/>
          </p:nvSpPr>
          <p:spPr>
            <a:xfrm rot="19790400">
              <a:off x="6206400" y="1147320"/>
              <a:ext cx="1669680" cy="98172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角三角形 138"/>
            <p:cNvSpPr/>
            <p:nvPr/>
          </p:nvSpPr>
          <p:spPr>
            <a:xfrm rot="16084200">
              <a:off x="6721200" y="345960"/>
              <a:ext cx="154944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任意多边形 38"/>
            <p:cNvSpPr/>
            <p:nvPr/>
          </p:nvSpPr>
          <p:spPr>
            <a:xfrm rot="12590400">
              <a:off x="6917400" y="-272880"/>
              <a:ext cx="790560" cy="902880"/>
            </a:xfrm>
            <a:custGeom>
              <a:avLst/>
              <a:gdLst/>
              <a:ahLst/>
              <a:rect l="l" t="t" r="r" b="b"/>
              <a:pathLst>
                <a:path w="1054318" h="1204015">
                  <a:moveTo>
                    <a:pt x="1054318" y="599122"/>
                  </a:moveTo>
                  <a:lnTo>
                    <a:pt x="0" y="1204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B06A-61EB-4D01-83A2-8EA1A45FE0A8}" type="datetime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26/7/29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DEFE-CC1E-481F-8B7F-BE1EB68D0D89}" type="slidenum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466200" y="812520"/>
            <a:ext cx="821556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dc5c31"/>
              </a:buClr>
              <a:buSzPct val="60000"/>
              <a:buFont typeface="Wingdings 2" charset="2"/>
              <a:buChar char="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f2c37d"/>
              </a:buClr>
              <a:buSzPct val="6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66200" y="101520"/>
            <a:ext cx="8215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c5c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3"/>
          <p:cNvSpPr/>
          <p:nvPr/>
        </p:nvSpPr>
        <p:spPr>
          <a:xfrm>
            <a:off x="0" y="0"/>
            <a:ext cx="9147240" cy="5143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角三角形 120"/>
          <p:cNvSpPr/>
          <p:nvPr/>
        </p:nvSpPr>
        <p:spPr>
          <a:xfrm rot="8990400">
            <a:off x="6767640" y="2096640"/>
            <a:ext cx="1668240" cy="981000"/>
          </a:xfrm>
          <a:prstGeom prst="rtTriangle">
            <a:avLst/>
          </a:pr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角三角形 121"/>
          <p:cNvSpPr/>
          <p:nvPr/>
        </p:nvSpPr>
        <p:spPr>
          <a:xfrm rot="5358000">
            <a:off x="6312240" y="3000960"/>
            <a:ext cx="1697040" cy="965160"/>
          </a:xfrm>
          <a:prstGeom prst="rtTriangle">
            <a:avLst/>
          </a:pr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角三角形 122"/>
          <p:cNvSpPr/>
          <p:nvPr/>
        </p:nvSpPr>
        <p:spPr>
          <a:xfrm rot="1804800">
            <a:off x="6856200" y="3817440"/>
            <a:ext cx="1698480" cy="965160"/>
          </a:xfrm>
          <a:prstGeom prst="rtTriangle">
            <a:avLst/>
          </a:pr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47"/>
          <p:cNvSpPr/>
          <p:nvPr/>
        </p:nvSpPr>
        <p:spPr>
          <a:xfrm rot="19790400">
            <a:off x="7896240" y="3919680"/>
            <a:ext cx="1197000" cy="982440"/>
          </a:xfrm>
          <a:custGeom>
            <a:avLst/>
            <a:gdLst/>
            <a:ahLst/>
            <a:rect l="l" t="t" r="r" b="b"/>
            <a:pathLst>
              <a:path w="1597713" h="1309049">
                <a:moveTo>
                  <a:pt x="0" y="0"/>
                </a:moveTo>
                <a:lnTo>
                  <a:pt x="1597713" y="939480"/>
                </a:lnTo>
                <a:lnTo>
                  <a:pt x="1382999" y="1309049"/>
                </a:lnTo>
                <a:lnTo>
                  <a:pt x="0" y="1309049"/>
                </a:lnTo>
                <a:close/>
              </a:path>
            </a:pathLst>
          </a:cu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48"/>
          <p:cNvSpPr/>
          <p:nvPr/>
        </p:nvSpPr>
        <p:spPr>
          <a:xfrm rot="16084200">
            <a:off x="8511840" y="3646080"/>
            <a:ext cx="792000" cy="449280"/>
          </a:xfrm>
          <a:custGeom>
            <a:avLst/>
            <a:gdLst/>
            <a:ahLst/>
            <a:rect l="l" t="t" r="r" b="b"/>
            <a:pathLst>
              <a:path w="1056335" h="600268">
                <a:moveTo>
                  <a:pt x="1056335" y="600268"/>
                </a:moveTo>
                <a:lnTo>
                  <a:pt x="0" y="564825"/>
                </a:lnTo>
                <a:lnTo>
                  <a:pt x="0" y="0"/>
                </a:lnTo>
                <a:close/>
              </a:path>
            </a:pathLst>
          </a:cu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49"/>
          <p:cNvSpPr/>
          <p:nvPr/>
        </p:nvSpPr>
        <p:spPr>
          <a:xfrm rot="12590400">
            <a:off x="7743960" y="2096280"/>
            <a:ext cx="1697040" cy="965160"/>
          </a:xfrm>
          <a:custGeom>
            <a:avLst/>
            <a:gdLst/>
            <a:ahLst/>
            <a:rect l="l" t="t" r="r" b="b"/>
            <a:pathLst>
              <a:path w="2264591" h="1286867">
                <a:moveTo>
                  <a:pt x="2264591" y="1286867"/>
                </a:moveTo>
                <a:lnTo>
                  <a:pt x="689960" y="1286867"/>
                </a:lnTo>
                <a:lnTo>
                  <a:pt x="0" y="84277"/>
                </a:lnTo>
                <a:lnTo>
                  <a:pt x="0" y="0"/>
                </a:lnTo>
                <a:close/>
              </a:path>
            </a:pathLst>
          </a:cu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角三角形 109"/>
          <p:cNvSpPr/>
          <p:nvPr/>
        </p:nvSpPr>
        <p:spPr>
          <a:xfrm rot="5358000">
            <a:off x="7699680" y="338760"/>
            <a:ext cx="1643040" cy="965160"/>
          </a:xfrm>
          <a:prstGeom prst="rtTriangle">
            <a:avLst/>
          </a:pr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51"/>
          <p:cNvSpPr/>
          <p:nvPr/>
        </p:nvSpPr>
        <p:spPr>
          <a:xfrm rot="1804800">
            <a:off x="8251560" y="1001880"/>
            <a:ext cx="1190520" cy="965160"/>
          </a:xfrm>
          <a:custGeom>
            <a:avLst/>
            <a:gdLst/>
            <a:ahLst/>
            <a:rect l="l" t="t" r="r" b="b"/>
            <a:pathLst>
              <a:path w="1587649" h="1286867">
                <a:moveTo>
                  <a:pt x="0" y="0"/>
                </a:moveTo>
                <a:lnTo>
                  <a:pt x="1255342" y="713355"/>
                </a:lnTo>
                <a:lnTo>
                  <a:pt x="1587649" y="1286867"/>
                </a:lnTo>
                <a:lnTo>
                  <a:pt x="0" y="1286867"/>
                </a:lnTo>
                <a:close/>
              </a:path>
            </a:pathLst>
          </a:cu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角三角形 135"/>
          <p:cNvSpPr/>
          <p:nvPr/>
        </p:nvSpPr>
        <p:spPr>
          <a:xfrm rot="5358000">
            <a:off x="4649400" y="350640"/>
            <a:ext cx="1698480" cy="955800"/>
          </a:xfrm>
          <a:custGeom>
            <a:avLst/>
            <a:gdLst/>
            <a:ahLst/>
            <a:rect l="l" t="t" r="r" b="b"/>
            <a:pathLst>
              <a:path w="2264591" h="1274015">
                <a:moveTo>
                  <a:pt x="0" y="1274015"/>
                </a:moveTo>
                <a:lnTo>
                  <a:pt x="12545" y="0"/>
                </a:lnTo>
                <a:lnTo>
                  <a:pt x="2264591" y="1274015"/>
                </a:lnTo>
                <a:lnTo>
                  <a:pt x="0" y="1274015"/>
                </a:lnTo>
                <a:close/>
              </a:path>
            </a:pathLst>
          </a:cu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角三角形 136"/>
          <p:cNvSpPr/>
          <p:nvPr/>
        </p:nvSpPr>
        <p:spPr>
          <a:xfrm rot="1804800">
            <a:off x="5198760" y="1161720"/>
            <a:ext cx="1698480" cy="965160"/>
          </a:xfrm>
          <a:prstGeom prst="rtTriangle">
            <a:avLst/>
          </a:pr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角三角形 137"/>
          <p:cNvSpPr/>
          <p:nvPr/>
        </p:nvSpPr>
        <p:spPr>
          <a:xfrm rot="19790400">
            <a:off x="6206760" y="1145880"/>
            <a:ext cx="1668600" cy="982440"/>
          </a:xfrm>
          <a:prstGeom prst="rtTriangle">
            <a:avLst/>
          </a:pr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角三角形 138"/>
          <p:cNvSpPr/>
          <p:nvPr/>
        </p:nvSpPr>
        <p:spPr>
          <a:xfrm rot="16084200">
            <a:off x="6678360" y="304560"/>
            <a:ext cx="1631880" cy="965160"/>
          </a:xfrm>
          <a:prstGeom prst="rtTriangle">
            <a:avLst/>
          </a:pr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78"/>
          <p:cNvSpPr/>
          <p:nvPr/>
        </p:nvSpPr>
        <p:spPr>
          <a:xfrm rot="12590400">
            <a:off x="6958080" y="-264960"/>
            <a:ext cx="784080" cy="895320"/>
          </a:xfrm>
          <a:custGeom>
            <a:avLst/>
            <a:gdLst/>
            <a:ahLst/>
            <a:rect l="l" t="t" r="r" b="b"/>
            <a:pathLst>
              <a:path w="1045243" h="1193652">
                <a:moveTo>
                  <a:pt x="1045243" y="593966"/>
                </a:moveTo>
                <a:lnTo>
                  <a:pt x="0" y="1193652"/>
                </a:lnTo>
                <a:lnTo>
                  <a:pt x="0" y="0"/>
                </a:lnTo>
                <a:close/>
              </a:path>
            </a:pathLst>
          </a:custGeom>
          <a:solidFill>
            <a:srgbClr val="bfbfb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组合 1" descr=""/>
          <p:cNvPicPr/>
          <p:nvPr/>
        </p:nvPicPr>
        <p:blipFill>
          <a:blip r:embed="rId2"/>
          <a:stretch/>
        </p:blipFill>
        <p:spPr>
          <a:xfrm>
            <a:off x="4995720" y="1508040"/>
            <a:ext cx="3194280" cy="2205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6200" y="101520"/>
            <a:ext cx="8215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c5c3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6200" y="812520"/>
            <a:ext cx="821556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dc5c31"/>
              </a:buClr>
              <a:buSzPct val="60000"/>
              <a:buFont typeface="Wingdings 2" charset="2"/>
              <a:buChar char="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f2c37d"/>
              </a:buClr>
              <a:buSzPct val="6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7007-21AA-4023-BF6D-E1552858FA66}" type="datetime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26/7/29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562-2AD4-4D81-994F-FC585E7D6164}" type="slidenum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24"/>
          <p:cNvGrpSpPr/>
          <p:nvPr/>
        </p:nvGrpSpPr>
        <p:grpSpPr>
          <a:xfrm>
            <a:off x="0" y="-409680"/>
            <a:ext cx="9604080" cy="5553360"/>
            <a:chOff x="0" y="-409680"/>
            <a:chExt cx="9604080" cy="5553360"/>
          </a:xfrm>
        </p:grpSpPr>
        <p:sp>
          <p:nvSpPr>
            <p:cNvPr id="152" name="矩形 25"/>
            <p:cNvSpPr/>
            <p:nvPr/>
          </p:nvSpPr>
          <p:spPr>
            <a:xfrm>
              <a:off x="0" y="360"/>
              <a:ext cx="9146880" cy="514332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角三角形 120"/>
            <p:cNvSpPr/>
            <p:nvPr/>
          </p:nvSpPr>
          <p:spPr>
            <a:xfrm rot="8990400">
              <a:off x="6766560" y="2096640"/>
              <a:ext cx="1669680" cy="98172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角三角形 121"/>
            <p:cNvSpPr/>
            <p:nvPr/>
          </p:nvSpPr>
          <p:spPr>
            <a:xfrm rot="5358000">
              <a:off x="6311520" y="3001320"/>
              <a:ext cx="169812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角三角形 122"/>
            <p:cNvSpPr/>
            <p:nvPr/>
          </p:nvSpPr>
          <p:spPr>
            <a:xfrm rot="1804800">
              <a:off x="6856560" y="3817800"/>
              <a:ext cx="1698480" cy="96480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任意多边形 29"/>
            <p:cNvSpPr/>
            <p:nvPr/>
          </p:nvSpPr>
          <p:spPr>
            <a:xfrm rot="19790400">
              <a:off x="7895520" y="3920760"/>
              <a:ext cx="1198080" cy="981720"/>
            </a:xfrm>
            <a:custGeom>
              <a:avLst/>
              <a:gdLst/>
              <a:ahLst/>
              <a:rect l="l" t="t" r="r" b="b"/>
              <a:pathLst>
                <a:path w="1597713" h="1309049">
                  <a:moveTo>
                    <a:pt x="0" y="0"/>
                  </a:moveTo>
                  <a:lnTo>
                    <a:pt x="1597713" y="939480"/>
                  </a:lnTo>
                  <a:lnTo>
                    <a:pt x="1382999" y="1309049"/>
                  </a:lnTo>
                  <a:lnTo>
                    <a:pt x="0" y="1309049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任意多边形 30"/>
            <p:cNvSpPr/>
            <p:nvPr/>
          </p:nvSpPr>
          <p:spPr>
            <a:xfrm rot="16084200">
              <a:off x="8512200" y="3645360"/>
              <a:ext cx="792000" cy="450000"/>
            </a:xfrm>
            <a:custGeom>
              <a:avLst/>
              <a:gdLst/>
              <a:ahLst/>
              <a:rect l="l" t="t" r="r" b="b"/>
              <a:pathLst>
                <a:path w="1056335" h="600268">
                  <a:moveTo>
                    <a:pt x="1056335" y="600268"/>
                  </a:moveTo>
                  <a:lnTo>
                    <a:pt x="0" y="5648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任意多边形 31"/>
            <p:cNvSpPr/>
            <p:nvPr/>
          </p:nvSpPr>
          <p:spPr>
            <a:xfrm rot="12590400">
              <a:off x="7742880" y="2097720"/>
              <a:ext cx="1698480" cy="964800"/>
            </a:xfrm>
            <a:custGeom>
              <a:avLst/>
              <a:gdLst/>
              <a:ahLst/>
              <a:rect l="l" t="t" r="r" b="b"/>
              <a:pathLst>
                <a:path w="2264591" h="1286867">
                  <a:moveTo>
                    <a:pt x="2264591" y="1286867"/>
                  </a:moveTo>
                  <a:lnTo>
                    <a:pt x="689960" y="1286867"/>
                  </a:lnTo>
                  <a:lnTo>
                    <a:pt x="0" y="84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直角三角形 109"/>
            <p:cNvSpPr/>
            <p:nvPr/>
          </p:nvSpPr>
          <p:spPr>
            <a:xfrm rot="5358000">
              <a:off x="7700040" y="339480"/>
              <a:ext cx="164376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任意多边形 33"/>
            <p:cNvSpPr/>
            <p:nvPr/>
          </p:nvSpPr>
          <p:spPr>
            <a:xfrm rot="1804800">
              <a:off x="8251560" y="1001520"/>
              <a:ext cx="1190520" cy="964800"/>
            </a:xfrm>
            <a:custGeom>
              <a:avLst/>
              <a:gdLst/>
              <a:ahLst/>
              <a:rect l="l" t="t" r="r" b="b"/>
              <a:pathLst>
                <a:path w="1587649" h="1286867">
                  <a:moveTo>
                    <a:pt x="0" y="0"/>
                  </a:moveTo>
                  <a:lnTo>
                    <a:pt x="1255342" y="713355"/>
                  </a:lnTo>
                  <a:lnTo>
                    <a:pt x="1587649" y="1286867"/>
                  </a:lnTo>
                  <a:lnTo>
                    <a:pt x="0" y="1286867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角三角形 135"/>
            <p:cNvSpPr/>
            <p:nvPr/>
          </p:nvSpPr>
          <p:spPr>
            <a:xfrm rot="5358000">
              <a:off x="4654080" y="347040"/>
              <a:ext cx="169812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角三角形 136"/>
            <p:cNvSpPr/>
            <p:nvPr/>
          </p:nvSpPr>
          <p:spPr>
            <a:xfrm rot="1804800">
              <a:off x="5199120" y="1162800"/>
              <a:ext cx="1698480" cy="96480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直角三角形 137"/>
            <p:cNvSpPr/>
            <p:nvPr/>
          </p:nvSpPr>
          <p:spPr>
            <a:xfrm rot="19790400">
              <a:off x="6206400" y="1147320"/>
              <a:ext cx="1669680" cy="98172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直角三角形 138"/>
            <p:cNvSpPr/>
            <p:nvPr/>
          </p:nvSpPr>
          <p:spPr>
            <a:xfrm rot="16084200">
              <a:off x="6721200" y="345960"/>
              <a:ext cx="154944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任意多边形 38"/>
            <p:cNvSpPr/>
            <p:nvPr/>
          </p:nvSpPr>
          <p:spPr>
            <a:xfrm rot="12590400">
              <a:off x="6917400" y="-272880"/>
              <a:ext cx="790560" cy="902880"/>
            </a:xfrm>
            <a:custGeom>
              <a:avLst/>
              <a:gdLst/>
              <a:ahLst/>
              <a:rect l="l" t="t" r="r" b="b"/>
              <a:pathLst>
                <a:path w="1054318" h="1204015">
                  <a:moveTo>
                    <a:pt x="1054318" y="599122"/>
                  </a:moveTo>
                  <a:lnTo>
                    <a:pt x="0" y="1204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9"/>
          <p:cNvGrpSpPr/>
          <p:nvPr/>
        </p:nvGrpSpPr>
        <p:grpSpPr>
          <a:xfrm>
            <a:off x="1844640" y="1566720"/>
            <a:ext cx="603360" cy="1271880"/>
            <a:chOff x="1844640" y="1566720"/>
            <a:chExt cx="603360" cy="1271880"/>
          </a:xfrm>
        </p:grpSpPr>
        <p:sp>
          <p:nvSpPr>
            <p:cNvPr id="167" name="MH_Others_1"/>
            <p:cNvSpPr/>
            <p:nvPr/>
          </p:nvSpPr>
          <p:spPr>
            <a:xfrm>
              <a:off x="1844640" y="1566720"/>
              <a:ext cx="0" cy="1271880"/>
            </a:xfrm>
            <a:prstGeom prst="line">
              <a:avLst/>
            </a:prstGeom>
            <a:ln w="22320">
              <a:solidFill>
                <a:srgbClr val="ea9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MH_Number"/>
            <p:cNvSpPr/>
            <p:nvPr/>
          </p:nvSpPr>
          <p:spPr>
            <a:xfrm>
              <a:off x="1898280" y="1574640"/>
              <a:ext cx="549720" cy="637200"/>
            </a:xfrm>
            <a:custGeom>
              <a:avLst/>
              <a:gdLst/>
              <a:ahLst/>
              <a:rect l="l" t="t" r="r" b="b"/>
              <a:pathLst>
                <a:path w="682834" h="792088">
                  <a:moveTo>
                    <a:pt x="0" y="0"/>
                  </a:moveTo>
                  <a:lnTo>
                    <a:pt x="682834" y="396044"/>
                  </a:lnTo>
                  <a:lnTo>
                    <a:pt x="0" y="792088"/>
                  </a:lnTo>
                  <a:close/>
                </a:path>
              </a:pathLst>
            </a:custGeom>
            <a:solidFill>
              <a:srgbClr val="ea9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" rIns="0" tIns="2700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6200" y="101520"/>
            <a:ext cx="8215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c5c3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6200" y="812520"/>
            <a:ext cx="821556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dc5c31"/>
              </a:buClr>
              <a:buSzPct val="60000"/>
              <a:buFont typeface="Wingdings 2" charset="2"/>
              <a:buChar char="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f2c37d"/>
              </a:buClr>
              <a:buSzPct val="6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D34-5344-4361-A9E3-64905285A6DF}" type="datetime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26/7/29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69D9-544C-4883-9B6F-F41FA477052D}" type="slidenum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24"/>
          <p:cNvGrpSpPr/>
          <p:nvPr/>
        </p:nvGrpSpPr>
        <p:grpSpPr>
          <a:xfrm>
            <a:off x="0" y="-409680"/>
            <a:ext cx="9604080" cy="5553360"/>
            <a:chOff x="0" y="-409680"/>
            <a:chExt cx="9604080" cy="5553360"/>
          </a:xfrm>
        </p:grpSpPr>
        <p:sp>
          <p:nvSpPr>
            <p:cNvPr id="211" name="矩形 25"/>
            <p:cNvSpPr/>
            <p:nvPr/>
          </p:nvSpPr>
          <p:spPr>
            <a:xfrm>
              <a:off x="0" y="360"/>
              <a:ext cx="9146880" cy="514332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角三角形 120"/>
            <p:cNvSpPr/>
            <p:nvPr/>
          </p:nvSpPr>
          <p:spPr>
            <a:xfrm rot="8990400">
              <a:off x="6766560" y="2096640"/>
              <a:ext cx="1669680" cy="98172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角三角形 121"/>
            <p:cNvSpPr/>
            <p:nvPr/>
          </p:nvSpPr>
          <p:spPr>
            <a:xfrm rot="5358000">
              <a:off x="6311520" y="3001320"/>
              <a:ext cx="169812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角三角形 122"/>
            <p:cNvSpPr/>
            <p:nvPr/>
          </p:nvSpPr>
          <p:spPr>
            <a:xfrm rot="1804800">
              <a:off x="6856560" y="3817800"/>
              <a:ext cx="1698480" cy="96480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任意多边形 29"/>
            <p:cNvSpPr/>
            <p:nvPr/>
          </p:nvSpPr>
          <p:spPr>
            <a:xfrm rot="19790400">
              <a:off x="7895520" y="3920760"/>
              <a:ext cx="1198080" cy="981720"/>
            </a:xfrm>
            <a:custGeom>
              <a:avLst/>
              <a:gdLst/>
              <a:ahLst/>
              <a:rect l="l" t="t" r="r" b="b"/>
              <a:pathLst>
                <a:path w="1597713" h="1309049">
                  <a:moveTo>
                    <a:pt x="0" y="0"/>
                  </a:moveTo>
                  <a:lnTo>
                    <a:pt x="1597713" y="939480"/>
                  </a:lnTo>
                  <a:lnTo>
                    <a:pt x="1382999" y="1309049"/>
                  </a:lnTo>
                  <a:lnTo>
                    <a:pt x="0" y="1309049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30"/>
            <p:cNvSpPr/>
            <p:nvPr/>
          </p:nvSpPr>
          <p:spPr>
            <a:xfrm rot="16084200">
              <a:off x="8512200" y="3645360"/>
              <a:ext cx="792000" cy="450000"/>
            </a:xfrm>
            <a:custGeom>
              <a:avLst/>
              <a:gdLst/>
              <a:ahLst/>
              <a:rect l="l" t="t" r="r" b="b"/>
              <a:pathLst>
                <a:path w="1056335" h="600268">
                  <a:moveTo>
                    <a:pt x="1056335" y="600268"/>
                  </a:moveTo>
                  <a:lnTo>
                    <a:pt x="0" y="5648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31"/>
            <p:cNvSpPr/>
            <p:nvPr/>
          </p:nvSpPr>
          <p:spPr>
            <a:xfrm rot="12590400">
              <a:off x="7742880" y="2097720"/>
              <a:ext cx="1698480" cy="964800"/>
            </a:xfrm>
            <a:custGeom>
              <a:avLst/>
              <a:gdLst/>
              <a:ahLst/>
              <a:rect l="l" t="t" r="r" b="b"/>
              <a:pathLst>
                <a:path w="2264591" h="1286867">
                  <a:moveTo>
                    <a:pt x="2264591" y="1286867"/>
                  </a:moveTo>
                  <a:lnTo>
                    <a:pt x="689960" y="1286867"/>
                  </a:lnTo>
                  <a:lnTo>
                    <a:pt x="0" y="84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角三角形 109"/>
            <p:cNvSpPr/>
            <p:nvPr/>
          </p:nvSpPr>
          <p:spPr>
            <a:xfrm rot="5358000">
              <a:off x="7700040" y="339480"/>
              <a:ext cx="164376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33"/>
            <p:cNvSpPr/>
            <p:nvPr/>
          </p:nvSpPr>
          <p:spPr>
            <a:xfrm rot="1804800">
              <a:off x="8251560" y="1001520"/>
              <a:ext cx="1190520" cy="964800"/>
            </a:xfrm>
            <a:custGeom>
              <a:avLst/>
              <a:gdLst/>
              <a:ahLst/>
              <a:rect l="l" t="t" r="r" b="b"/>
              <a:pathLst>
                <a:path w="1587649" h="1286867">
                  <a:moveTo>
                    <a:pt x="0" y="0"/>
                  </a:moveTo>
                  <a:lnTo>
                    <a:pt x="1255342" y="713355"/>
                  </a:lnTo>
                  <a:lnTo>
                    <a:pt x="1587649" y="1286867"/>
                  </a:lnTo>
                  <a:lnTo>
                    <a:pt x="0" y="1286867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角三角形 135"/>
            <p:cNvSpPr/>
            <p:nvPr/>
          </p:nvSpPr>
          <p:spPr>
            <a:xfrm rot="5358000">
              <a:off x="4654080" y="347040"/>
              <a:ext cx="169812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直角三角形 136"/>
            <p:cNvSpPr/>
            <p:nvPr/>
          </p:nvSpPr>
          <p:spPr>
            <a:xfrm rot="1804800">
              <a:off x="5199120" y="1162800"/>
              <a:ext cx="1698480" cy="96480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角三角形 137"/>
            <p:cNvSpPr/>
            <p:nvPr/>
          </p:nvSpPr>
          <p:spPr>
            <a:xfrm rot="19790400">
              <a:off x="6206400" y="1147320"/>
              <a:ext cx="1669680" cy="98172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角三角形 138"/>
            <p:cNvSpPr/>
            <p:nvPr/>
          </p:nvSpPr>
          <p:spPr>
            <a:xfrm rot="16084200">
              <a:off x="6721200" y="345960"/>
              <a:ext cx="1549440" cy="9651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任意多边形 38"/>
            <p:cNvSpPr/>
            <p:nvPr/>
          </p:nvSpPr>
          <p:spPr>
            <a:xfrm rot="12590400">
              <a:off x="6917400" y="-272880"/>
              <a:ext cx="790560" cy="902880"/>
            </a:xfrm>
            <a:custGeom>
              <a:avLst/>
              <a:gdLst/>
              <a:ahLst/>
              <a:rect l="l" t="t" r="r" b="b"/>
              <a:pathLst>
                <a:path w="1054318" h="1204015">
                  <a:moveTo>
                    <a:pt x="1054318" y="599122"/>
                  </a:moveTo>
                  <a:lnTo>
                    <a:pt x="0" y="1204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直接连接符 2" descr=""/>
          <p:cNvPicPr/>
          <p:nvPr/>
        </p:nvPicPr>
        <p:blipFill>
          <a:blip r:embed="rId2"/>
          <a:stretch/>
        </p:blipFill>
        <p:spPr>
          <a:xfrm>
            <a:off x="1917720" y="2262240"/>
            <a:ext cx="5292720" cy="25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6200" y="101520"/>
            <a:ext cx="8215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c5c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66200" y="812520"/>
            <a:ext cx="821556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110000"/>
              </a:lnSpc>
              <a:spcBef>
                <a:spcPts val="901"/>
              </a:spcBef>
              <a:buClr>
                <a:srgbClr val="dc5c31"/>
              </a:buClr>
              <a:buSzPct val="60000"/>
              <a:buFont typeface="Wingdings 2" charset="2"/>
              <a:buChar char="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1" indent="514440" algn="just">
              <a:lnSpc>
                <a:spcPct val="110000"/>
              </a:lnSpc>
              <a:spcBef>
                <a:spcPts val="901"/>
              </a:spcBef>
              <a:buClr>
                <a:srgbClr val="f2c37d"/>
              </a:buClr>
              <a:buSzPct val="6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2" marL="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901"/>
              </a:spcBef>
              <a:buClr>
                <a:srgbClr val="4b4d4f"/>
              </a:buClr>
              <a:buSzPct val="6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4b4d4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b4d4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918-FC4D-434C-97E6-F27C2BCCCAED}" type="datetime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26/7/29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969697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982-F810-408D-9C91-16E97854E2BE}" type="slidenum">
              <a:rPr b="0" lang="zh-CN" sz="600" spc="-1" strike="noStrike">
                <a:solidFill>
                  <a:srgbClr val="969697"/>
                </a:solidFill>
                <a:latin typeface="Calibri"/>
                <a:ea typeface="宋体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-540000" y="2498760"/>
            <a:ext cx="440532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1300" spc="-1" strike="noStrike">
                <a:solidFill>
                  <a:srgbClr val="4b4d4f"/>
                </a:solidFill>
                <a:latin typeface="Arial"/>
              </a:rPr>
              <a:t>第二组研讨情况汇报</a:t>
            </a:r>
            <a:endParaRPr b="0" lang="en-US" sz="1300" spc="-1" strike="noStrike">
              <a:solidFill>
                <a:srgbClr val="4b4d4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-36360" y="1347840"/>
            <a:ext cx="46958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2000" spc="-1" strike="noStrike">
                <a:solidFill>
                  <a:srgbClr val="dc5c31"/>
                </a:solidFill>
                <a:latin typeface="Arial"/>
              </a:rPr>
              <a:t>第十二届学生工作理论研讨会</a:t>
            </a:r>
            <a:endParaRPr b="1" lang="en-US" sz="2000" spc="-1" strike="noStrike">
              <a:solidFill>
                <a:srgbClr val="dc5c31"/>
              </a:solidFill>
              <a:latin typeface="Arial"/>
            </a:endParaRPr>
          </a:p>
        </p:txBody>
      </p:sp>
      <p:pic>
        <p:nvPicPr>
          <p:cNvPr id="269" name="Picture 7" descr="校徽"/>
          <p:cNvPicPr/>
          <p:nvPr/>
        </p:nvPicPr>
        <p:blipFill>
          <a:blip r:embed="rId1"/>
          <a:stretch/>
        </p:blipFill>
        <p:spPr>
          <a:xfrm>
            <a:off x="5796000" y="2211480"/>
            <a:ext cx="671400" cy="54612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1"/>
          <p:cNvSpPr/>
          <p:nvPr/>
        </p:nvSpPr>
        <p:spPr>
          <a:xfrm>
            <a:off x="2338920" y="3076560"/>
            <a:ext cx="12340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201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2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日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校徽"/>
          <p:cNvPicPr/>
          <p:nvPr/>
        </p:nvPicPr>
        <p:blipFill>
          <a:blip r:embed="rId1"/>
          <a:stretch/>
        </p:blipFill>
        <p:spPr>
          <a:xfrm>
            <a:off x="0" y="195120"/>
            <a:ext cx="739800" cy="601920"/>
          </a:xfrm>
          <a:prstGeom prst="rect">
            <a:avLst/>
          </a:prstGeom>
          <a:ln w="0">
            <a:noFill/>
          </a:ln>
        </p:spPr>
      </p:pic>
      <p:sp>
        <p:nvSpPr>
          <p:cNvPr id="272" name="矩形 1"/>
          <p:cNvSpPr/>
          <p:nvPr/>
        </p:nvSpPr>
        <p:spPr>
          <a:xfrm>
            <a:off x="755640" y="1060560"/>
            <a:ext cx="59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80000"/>
              </a:lnSpc>
              <a:buClr>
                <a:srgbClr val="3399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 </a:t>
            </a: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会议准备情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图片 2" descr=""/>
          <p:cNvPicPr/>
          <p:nvPr/>
        </p:nvPicPr>
        <p:blipFill>
          <a:blip r:embed="rId2"/>
          <a:stretch/>
        </p:blipFill>
        <p:spPr>
          <a:xfrm>
            <a:off x="3065400" y="2206800"/>
            <a:ext cx="1550880" cy="1163520"/>
          </a:xfrm>
          <a:prstGeom prst="rect">
            <a:avLst/>
          </a:prstGeom>
          <a:ln w="0">
            <a:noFill/>
          </a:ln>
        </p:spPr>
      </p:pic>
      <p:sp>
        <p:nvSpPr>
          <p:cNvPr id="274" name="矩形 3"/>
          <p:cNvSpPr/>
          <p:nvPr/>
        </p:nvSpPr>
        <p:spPr>
          <a:xfrm>
            <a:off x="3076560" y="3540240"/>
            <a:ext cx="1614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王秀林书记主持讨论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" descr=""/>
          <p:cNvPicPr/>
          <p:nvPr/>
        </p:nvPicPr>
        <p:blipFill>
          <a:blip r:embed="rId3"/>
          <a:stretch/>
        </p:blipFill>
        <p:spPr>
          <a:xfrm>
            <a:off x="5249880" y="2230560"/>
            <a:ext cx="1485720" cy="1114200"/>
          </a:xfrm>
          <a:prstGeom prst="rect">
            <a:avLst/>
          </a:prstGeom>
          <a:ln w="0">
            <a:noFill/>
          </a:ln>
        </p:spPr>
      </p:pic>
      <p:sp>
        <p:nvSpPr>
          <p:cNvPr id="276" name="矩形 9"/>
          <p:cNvSpPr/>
          <p:nvPr/>
        </p:nvSpPr>
        <p:spPr>
          <a:xfrm>
            <a:off x="936720" y="3540240"/>
            <a:ext cx="16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张世勋处长出席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5091120" y="3568680"/>
            <a:ext cx="1803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参加讨论的领导和老师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5" descr=""/>
          <p:cNvPicPr/>
          <p:nvPr/>
        </p:nvPicPr>
        <p:blipFill>
          <a:blip r:embed="rId4"/>
          <a:stretch/>
        </p:blipFill>
        <p:spPr>
          <a:xfrm>
            <a:off x="933480" y="2193840"/>
            <a:ext cx="1544760" cy="12416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1" descr=""/>
          <p:cNvPicPr/>
          <p:nvPr/>
        </p:nvPicPr>
        <p:blipFill>
          <a:blip r:embed="rId5"/>
          <a:stretch/>
        </p:blipFill>
        <p:spPr>
          <a:xfrm>
            <a:off x="7253280" y="2206800"/>
            <a:ext cx="1279440" cy="1176120"/>
          </a:xfrm>
          <a:prstGeom prst="rect">
            <a:avLst/>
          </a:prstGeom>
          <a:ln w="0">
            <a:noFill/>
          </a:ln>
        </p:spPr>
      </p:pic>
      <p:sp>
        <p:nvSpPr>
          <p:cNvPr id="280" name="矩形 12"/>
          <p:cNvSpPr/>
          <p:nvPr/>
        </p:nvSpPr>
        <p:spPr>
          <a:xfrm>
            <a:off x="7218360" y="3419640"/>
            <a:ext cx="20559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汇报小组准备开工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标题 2"/>
          <p:cNvSpPr/>
          <p:nvPr/>
        </p:nvSpPr>
        <p:spPr>
          <a:xfrm>
            <a:off x="682560" y="339840"/>
            <a:ext cx="56008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 </a:t>
            </a: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一、前期准备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校徽"/>
          <p:cNvPicPr/>
          <p:nvPr/>
        </p:nvPicPr>
        <p:blipFill>
          <a:blip r:embed="rId1"/>
          <a:stretch/>
        </p:blipFill>
        <p:spPr>
          <a:xfrm>
            <a:off x="0" y="195120"/>
            <a:ext cx="666720" cy="541440"/>
          </a:xfrm>
          <a:prstGeom prst="rect">
            <a:avLst/>
          </a:prstGeom>
          <a:ln w="0">
            <a:noFill/>
          </a:ln>
        </p:spPr>
      </p:pic>
      <p:sp>
        <p:nvSpPr>
          <p:cNvPr id="283" name="矩形 1"/>
          <p:cNvSpPr/>
          <p:nvPr/>
        </p:nvSpPr>
        <p:spPr>
          <a:xfrm>
            <a:off x="682560" y="914400"/>
            <a:ext cx="59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80000"/>
              </a:lnSpc>
              <a:buClr>
                <a:srgbClr val="3399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 </a:t>
            </a: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与会成员结合学生工作实际情况提出问题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9"/>
          <p:cNvSpPr/>
          <p:nvPr/>
        </p:nvSpPr>
        <p:spPr>
          <a:xfrm>
            <a:off x="460440" y="3703680"/>
            <a:ext cx="1515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信息管理学院罗老师基于</a:t>
            </a:r>
            <a:r>
              <a:rPr b="1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95</a:t>
            </a:r>
            <a:r>
              <a:rPr b="1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后学生新特点提出“低头族”学生问题、学生专业思想不稳定问题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图片 5" descr=""/>
          <p:cNvPicPr/>
          <p:nvPr/>
        </p:nvPicPr>
        <p:blipFill>
          <a:blip r:embed="rId2"/>
          <a:stretch/>
        </p:blipFill>
        <p:spPr>
          <a:xfrm>
            <a:off x="500040" y="1878120"/>
            <a:ext cx="1352520" cy="1014480"/>
          </a:xfrm>
          <a:prstGeom prst="rect">
            <a:avLst/>
          </a:prstGeom>
          <a:ln w="0">
            <a:noFill/>
          </a:ln>
        </p:spPr>
      </p:pic>
      <p:sp>
        <p:nvSpPr>
          <p:cNvPr id="286" name="矩形 13"/>
          <p:cNvSpPr/>
          <p:nvPr/>
        </p:nvSpPr>
        <p:spPr>
          <a:xfrm>
            <a:off x="2243160" y="3703680"/>
            <a:ext cx="1515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马克思主义学院郑发展书记从“听说读写”四个方面介绍马院“第二课堂”，提出繁荣第二课堂的问题。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图片 7" descr=""/>
          <p:cNvPicPr/>
          <p:nvPr/>
        </p:nvPicPr>
        <p:blipFill>
          <a:blip r:embed="rId3"/>
          <a:stretch/>
        </p:blipFill>
        <p:spPr>
          <a:xfrm>
            <a:off x="2311560" y="1879560"/>
            <a:ext cx="1322280" cy="990720"/>
          </a:xfrm>
          <a:prstGeom prst="rect">
            <a:avLst/>
          </a:prstGeom>
          <a:ln w="0">
            <a:noFill/>
          </a:ln>
        </p:spPr>
      </p:pic>
      <p:sp>
        <p:nvSpPr>
          <p:cNvPr id="288" name="矩形 15"/>
          <p:cNvSpPr/>
          <p:nvPr/>
        </p:nvSpPr>
        <p:spPr>
          <a:xfrm>
            <a:off x="7367760" y="3522600"/>
            <a:ext cx="15159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美术学院研究生兼职辅导员王静老师提出学生干部培养和使用问题。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图片 11" descr=""/>
          <p:cNvPicPr/>
          <p:nvPr/>
        </p:nvPicPr>
        <p:blipFill>
          <a:blip r:embed="rId4"/>
          <a:stretch/>
        </p:blipFill>
        <p:spPr>
          <a:xfrm>
            <a:off x="7367760" y="1892160"/>
            <a:ext cx="1299960" cy="97488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2" descr=""/>
          <p:cNvPicPr/>
          <p:nvPr/>
        </p:nvPicPr>
        <p:blipFill>
          <a:blip r:embed="rId5"/>
          <a:stretch/>
        </p:blipFill>
        <p:spPr>
          <a:xfrm>
            <a:off x="5541840" y="1871640"/>
            <a:ext cx="1309680" cy="982800"/>
          </a:xfrm>
          <a:prstGeom prst="rect">
            <a:avLst/>
          </a:prstGeom>
          <a:ln w="0">
            <a:noFill/>
          </a:ln>
        </p:spPr>
      </p:pic>
      <p:sp>
        <p:nvSpPr>
          <p:cNvPr id="291" name="矩形 20"/>
          <p:cNvSpPr/>
          <p:nvPr/>
        </p:nvSpPr>
        <p:spPr>
          <a:xfrm>
            <a:off x="5584680" y="3544920"/>
            <a:ext cx="1516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国际学院辅导员张智化老师提出大学生思想政治教育针对性、实效性问题。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4" descr=""/>
          <p:cNvPicPr/>
          <p:nvPr/>
        </p:nvPicPr>
        <p:blipFill>
          <a:blip r:embed="rId6"/>
          <a:stretch/>
        </p:blipFill>
        <p:spPr>
          <a:xfrm>
            <a:off x="3935520" y="1892160"/>
            <a:ext cx="1282680" cy="962280"/>
          </a:xfrm>
          <a:prstGeom prst="rect">
            <a:avLst/>
          </a:prstGeom>
          <a:ln w="0">
            <a:noFill/>
          </a:ln>
        </p:spPr>
      </p:pic>
      <p:sp>
        <p:nvSpPr>
          <p:cNvPr id="293" name="矩形 22"/>
          <p:cNvSpPr/>
          <p:nvPr/>
        </p:nvSpPr>
        <p:spPr>
          <a:xfrm>
            <a:off x="3889440" y="3716280"/>
            <a:ext cx="1515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"/>
                <a:ea typeface="楷体"/>
              </a:rPr>
              <a:t>材料工程与科学学院王瑞波书记提出辅导员工作中如何“用巧劲”的问题，以及如何解决辅导员本领恐慌的问题。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标题 2"/>
          <p:cNvSpPr/>
          <p:nvPr/>
        </p:nvSpPr>
        <p:spPr>
          <a:xfrm>
            <a:off x="466560" y="339840"/>
            <a:ext cx="56008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 </a:t>
            </a: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二、提出问题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校徽"/>
          <p:cNvPicPr/>
          <p:nvPr/>
        </p:nvPicPr>
        <p:blipFill>
          <a:blip r:embed="rId1"/>
          <a:stretch/>
        </p:blipFill>
        <p:spPr>
          <a:xfrm>
            <a:off x="34920" y="123840"/>
            <a:ext cx="698400" cy="566640"/>
          </a:xfrm>
          <a:prstGeom prst="rect">
            <a:avLst/>
          </a:prstGeom>
          <a:ln w="0">
            <a:noFill/>
          </a:ln>
        </p:spPr>
      </p:pic>
      <p:sp>
        <p:nvSpPr>
          <p:cNvPr id="296" name="矩形 1"/>
          <p:cNvSpPr/>
          <p:nvPr/>
        </p:nvSpPr>
        <p:spPr>
          <a:xfrm>
            <a:off x="1042920" y="873000"/>
            <a:ext cx="59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80000"/>
              </a:lnSpc>
              <a:buClr>
                <a:srgbClr val="3399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 </a:t>
            </a: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与会成员结合学生工作实际情况提出问题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图片 2" descr=""/>
          <p:cNvPicPr/>
          <p:nvPr/>
        </p:nvPicPr>
        <p:blipFill>
          <a:blip r:embed="rId2"/>
          <a:stretch/>
        </p:blipFill>
        <p:spPr>
          <a:xfrm>
            <a:off x="1187280" y="1708200"/>
            <a:ext cx="4392720" cy="2494080"/>
          </a:xfrm>
          <a:prstGeom prst="rect">
            <a:avLst/>
          </a:prstGeom>
          <a:ln w="0">
            <a:noFill/>
          </a:ln>
        </p:spPr>
      </p:pic>
      <p:sp>
        <p:nvSpPr>
          <p:cNvPr id="298" name="矩形 11"/>
          <p:cNvSpPr/>
          <p:nvPr/>
        </p:nvSpPr>
        <p:spPr>
          <a:xfrm>
            <a:off x="1403280" y="4300560"/>
            <a:ext cx="4537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与会代表结合学生工作实际提出的问题清单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6278400" y="1276200"/>
            <a:ext cx="2378160" cy="30765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共九大类</a:t>
            </a:r>
            <a:r>
              <a:rPr b="1" lang="en-US" sz="1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29</a:t>
            </a:r>
            <a:r>
              <a:rPr b="1" lang="zh-CN" sz="1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个问题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想信念教育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健康教育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络思政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常管理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贫困生资助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辅导员自身发展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业创业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干部培养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舍管理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标题 2"/>
          <p:cNvSpPr/>
          <p:nvPr/>
        </p:nvSpPr>
        <p:spPr>
          <a:xfrm>
            <a:off x="900000" y="339840"/>
            <a:ext cx="55990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 </a:t>
            </a: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三、问题列表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校徽"/>
          <p:cNvPicPr/>
          <p:nvPr/>
        </p:nvPicPr>
        <p:blipFill>
          <a:blip r:embed="rId1"/>
          <a:stretch/>
        </p:blipFill>
        <p:spPr>
          <a:xfrm>
            <a:off x="0" y="171360"/>
            <a:ext cx="863640" cy="701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1"/>
          <p:cNvSpPr/>
          <p:nvPr/>
        </p:nvSpPr>
        <p:spPr>
          <a:xfrm>
            <a:off x="1066680" y="987480"/>
            <a:ext cx="7250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50000"/>
              </a:lnSpc>
              <a:buClr>
                <a:srgbClr val="3399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 </a:t>
            </a: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问题</a:t>
            </a:r>
            <a:r>
              <a:rPr b="1" lang="en-US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1</a:t>
            </a: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：学生上课玩手机现象如何引导？（</a:t>
            </a:r>
            <a:r>
              <a:rPr b="1" lang="en-US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17</a:t>
            </a:r>
            <a:r>
              <a:rPr b="1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分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50000"/>
              </a:lnSpc>
              <a:buClr>
                <a:srgbClr val="3399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问题</a:t>
            </a:r>
            <a:r>
              <a:rPr b="0" lang="en-US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：如何多样化提高大学生思想政治教育的实效性（</a:t>
            </a:r>
            <a:r>
              <a:rPr b="0" lang="en-US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16</a:t>
            </a: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分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50000"/>
              </a:lnSpc>
              <a:buClr>
                <a:srgbClr val="3399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问题</a:t>
            </a:r>
            <a:r>
              <a:rPr b="0" lang="en-US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3</a:t>
            </a: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：如何提升大学生自我认知能力的问题（</a:t>
            </a:r>
            <a:r>
              <a:rPr b="0" lang="en-US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15</a:t>
            </a: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分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如何解决学生沉迷游戏，自我封闭的问题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2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如何营造学生创业环境和创业氛围，深化就业指导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1042920" y="123840"/>
            <a:ext cx="27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四、典型问题凝炼与讨论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校徽"/>
          <p:cNvPicPr/>
          <p:nvPr/>
        </p:nvPicPr>
        <p:blipFill>
          <a:blip r:embed="rId1"/>
          <a:stretch/>
        </p:blipFill>
        <p:spPr>
          <a:xfrm>
            <a:off x="0" y="171360"/>
            <a:ext cx="863640" cy="701640"/>
          </a:xfrm>
          <a:prstGeom prst="rect">
            <a:avLst/>
          </a:prstGeom>
          <a:ln w="0">
            <a:noFill/>
          </a:ln>
        </p:spPr>
      </p:pic>
      <p:sp>
        <p:nvSpPr>
          <p:cNvPr id="305" name="矩形 1"/>
          <p:cNvSpPr/>
          <p:nvPr/>
        </p:nvSpPr>
        <p:spPr>
          <a:xfrm>
            <a:off x="1403280" y="4011480"/>
            <a:ext cx="7250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  </a:t>
            </a:r>
            <a:r>
              <a:rPr b="0" lang="zh-CN" sz="1800" spc="-1" strike="noStrike">
                <a:solidFill>
                  <a:srgbClr val="3399ff"/>
                </a:solidFill>
                <a:latin typeface="Times New Roman"/>
                <a:ea typeface="黑体"/>
              </a:rPr>
              <a:t>研讨结束后，本小组将就本次讨论的相关问题进行专题研究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1116000" y="123840"/>
            <a:ext cx="273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e21f26"/>
                </a:solidFill>
                <a:latin typeface="Arial"/>
                <a:ea typeface="黑体"/>
              </a:rPr>
              <a:t>五、研讨总结及后续工作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图片 2" descr=""/>
          <p:cNvPicPr/>
          <p:nvPr/>
        </p:nvPicPr>
        <p:blipFill>
          <a:blip r:embed="rId2"/>
          <a:stretch/>
        </p:blipFill>
        <p:spPr>
          <a:xfrm>
            <a:off x="1332000" y="1179360"/>
            <a:ext cx="3597120" cy="26989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0"/>
          <p:cNvSpPr/>
          <p:nvPr/>
        </p:nvSpPr>
        <p:spPr>
          <a:xfrm>
            <a:off x="5796000" y="1203480"/>
            <a:ext cx="2809800" cy="28080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学生处张世勋副处长就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本次研讨总结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风建设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科生国际交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数据运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细化学生管理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-684360" y="0"/>
            <a:ext cx="38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-468360" y="216000"/>
            <a:ext cx="38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619280" y="915840"/>
            <a:ext cx="590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THX  </a:t>
            </a: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谢谢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校徽"/>
          <p:cNvPicPr/>
          <p:nvPr/>
        </p:nvPicPr>
        <p:blipFill>
          <a:blip r:embed="rId1"/>
          <a:stretch/>
        </p:blipFill>
        <p:spPr>
          <a:xfrm>
            <a:off x="108000" y="266760"/>
            <a:ext cx="863640" cy="70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00Z</dcterms:created>
  <dc:creator>锐普PPT</dc:creator>
  <dc:description>本素材由上海锐普广告有限公司为锐普PPT商城5周年专门创作。凡于2013年6月18日-9月25日购买锐普PPT商城或PPT市场素材，即可获赠10套精致图表；一次性购买或充值金额大于500元，即可获赠100套精致图表；一次性购买或充值金额大于1000元，即可获赠200套精致图表。本图表素材版权受国家法律保护，仅授权获赠者本人使用，为了您个人和锐普的利益，请勿复制、传播、销售，否则将承担法律责任。</dc:description>
  <dc:language>en-US</dc:language>
  <cp:lastModifiedBy>win8</cp:lastModifiedBy>
  <dcterms:modified xsi:type="dcterms:W3CDTF">2016-01-30T03:23:59Z</dcterms:modified>
  <cp:revision>459</cp:revision>
  <dc:subject>锐普PPT商城5周年PPT图表免费送10张</dc:subject>
  <dc:title>锐普PPT商城5周年PPT图表免费送1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